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1.wav" ContentType="audio/x-wav"/>
  <Override PartName="/ppt/media/thinktheme.wav" ContentType="audio/x-wav"/>
  <Override PartName="/ppt/media/applause.wav" ContentType="audio/x-wav"/>
  <Override PartName="/ppt/media/boardfill.wav" ContentType="audio/x-wav"/>
  <Override PartName="/ppt/media/WHOOSH.WAV" ContentType="audio/x-wav"/>
  <Override PartName="/ppt/media/doh(1).wav" ContentType="audio/x-wav"/>
  <Override PartName="/ppt/media/image1.jpeg" ContentType="image/jpeg"/>
  <Override PartName="/ppt/media/dailydoubl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155448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79400" y="685440"/>
            <a:ext cx="5299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1347-E5C7-4105-9A00-16291E000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4809-81B8-42BD-BDD9-DB901AF50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766C-DBD7-472C-9DF5-5998B49E6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2F55-D9E8-48B4-8552-6715A95B3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D003-A5EE-4C0A-81C3-9179B491C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826A-0A58-4982-8A95-E701EF2E1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EAF0-B18A-4496-A7DC-A54F272CC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59E1-D574-4F88-A7A7-DD1549BCC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513A-E000-43FE-A07F-DD75C32C7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482D-DE84-412C-B891-B806B223F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B56F-0255-4FEC-8486-ED3D08970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4C42-9699-4D5B-A2CF-A32F62C52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3265-C00F-4D82-88EB-C622D1F21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E58C-529D-4E0A-B23A-010BEE551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3301-6B82-40E0-A93B-4C8AB7E49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41C8-4B96-4B85-99CB-7AAE62534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A98A-1674-4C96-9E49-FBB1312A0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47F8-5F9C-4AF7-987D-60326C46F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CF40-C145-4217-B803-DD792A5FA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55FA-D0D5-4B3A-9144-2744ECC6A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0408-6249-4FA2-9447-2747B879B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98A7-598B-43B2-8B2E-8CF9C208F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BE37-35AF-4357-8E75-82663FC72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D0B5-4AA3-4515-A96C-645267107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A461-DB95-4B27-9F11-D35B54E95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CCDF-75F5-4E4B-B363-BD2F27157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D9A4-16B5-4452-B771-1477C56B5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62BE-2F77-4560-82DF-52B240700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D0BE-C0DE-4F6B-A7AF-41467B6F4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119A-3F54-49D3-B9E1-FC0B57A19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806F-7BA7-4782-9064-56AF099CC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14C9-C3D7-4EC0-83DD-C0E4DB098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4F13-4501-4EA4-8D42-829F5B0B2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E9C5-6218-48F5-AF9F-8A0C5F54D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6544-3414-476F-B147-D241209CD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AD21-27E4-4F44-8877-E42FD3A9D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D351-7638-4EC2-B4FB-00FAEDF92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DCCA-800C-4DCB-9095-55488572B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88E8-C53F-482A-A1B1-2C2B84565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876F-4A33-4307-B159-EA78DEE24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5FA8-60A2-49E6-99B3-D55F7CA03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AD51-FC0D-47D6-AF08-28A24E04D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3C34-1E73-4B5B-AE39-41D81C2A5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65CE-B1D0-4A87-B9C5-A093594E8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7C84-C544-4B93-A59B-66FBDB7C9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556C-2CCE-4B60-97AD-5A4B18BDF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F201-AE5F-4C04-AA98-9679DAFFA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9A3D-4C88-4EFD-BDE0-694358904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AE39-AC58-4BB0-BEA3-DCDAB6922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A1BD-0E68-4401-B6EE-0210D6E51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CE04-D2DC-45FD-8EC3-1E562F58C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2A9D-572C-41EA-BF7B-6CE19ADC6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A833-8CA2-4D40-A5C6-0CDDC83F9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A9C4-9258-49A8-A52E-CEC66C030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446A-FFB2-45CF-B504-ECA08796A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0328-99DB-4593-BA2D-47E79596E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AD5C-A76C-4238-9CD7-FAE858305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8E0F-8666-43CF-A10F-F6A0AB846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B76F-9EA3-4752-9B45-BA6902968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1573-9CDA-46F8-AE01-578E71CC8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6DE9-B305-4B49-9062-E0CC4EE9D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DAC6-9384-4A05-929F-125902D4D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1AF5-30F5-48F7-BC32-C149DC38A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5F65-1F21-4E37-ABE5-9A6AA77EC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869F-5A51-4FBE-BBBC-B9E505659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48BB-C248-4E8F-8B00-DEBDB2994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DE21-45DB-486D-A2D8-A828AB15A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97C0-780F-4DAF-9BE9-35F676B78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9D13-A09D-453B-A0CC-A275B704B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FE45-34B2-4194-98EB-51BA26132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881B-F189-4BBE-8AD3-EC5D9D218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08A5-E810-47DD-9B02-AE7864E88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0C33-2366-461E-9278-2FB238199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D876-33C2-4EA9-B440-C034E3BD4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4361-23A7-4D58-A859-A6BB21176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779400" y="685800"/>
            <a:ext cx="52992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14B-D43F-464A-ADE9-9222B69C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D0F-3806-4D43-9390-6BC623C4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E2F-3D05-4AA7-B220-EBB1D47B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28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0124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6532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28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0124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63D-6DAD-4C72-A6EC-342F947C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72C-AC99-448F-B170-9F28C0E2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AB64-11A5-42CF-91C0-3EF58520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71C-2DF3-4F7C-B228-45CA94DA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AED-E4CC-4692-BC50-F968DD72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5320" y="893880"/>
            <a:ext cx="1321416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8876-8B7A-4896-8923-1A87E7DF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769A-358D-4B49-B115-21B9CBFE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F054-A18A-4BF8-ACD2-7F5910BE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437-8679-4D98-9E53-FEFD0B91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53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11800" y="9164160"/>
            <a:ext cx="492120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1409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fld id="{E852BAB5-9597-4781-A305-B864094D00B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1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audio" Target="../media/dailydoubl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54.xml"/><Relationship Id="rId3" Type="http://schemas.openxmlformats.org/officeDocument/2006/relationships/slide" Target="slide49.xml"/><Relationship Id="rId4" Type="http://schemas.openxmlformats.org/officeDocument/2006/relationships/slide" Target="slide44.xml"/><Relationship Id="rId5" Type="http://schemas.openxmlformats.org/officeDocument/2006/relationships/slide" Target="slide59.xml"/><Relationship Id="rId6" Type="http://schemas.openxmlformats.org/officeDocument/2006/relationships/slide" Target="slide64.xml"/><Relationship Id="rId7" Type="http://schemas.openxmlformats.org/officeDocument/2006/relationships/slide" Target="slide40.xml"/><Relationship Id="rId8" Type="http://schemas.openxmlformats.org/officeDocument/2006/relationships/slide" Target="slide65.xml"/><Relationship Id="rId9" Type="http://schemas.openxmlformats.org/officeDocument/2006/relationships/slide" Target="slide60.xml"/><Relationship Id="rId10" Type="http://schemas.openxmlformats.org/officeDocument/2006/relationships/slide" Target="slide55.xml"/><Relationship Id="rId11" Type="http://schemas.openxmlformats.org/officeDocument/2006/relationships/slide" Target="slide50.xml"/><Relationship Id="rId12" Type="http://schemas.openxmlformats.org/officeDocument/2006/relationships/slide" Target="slide45.xml"/><Relationship Id="rId13" Type="http://schemas.openxmlformats.org/officeDocument/2006/relationships/slide" Target="slide41.xml"/><Relationship Id="rId14" Type="http://schemas.openxmlformats.org/officeDocument/2006/relationships/slide" Target="slide46.xml"/><Relationship Id="rId15" Type="http://schemas.openxmlformats.org/officeDocument/2006/relationships/slide" Target="slide51.xml"/><Relationship Id="rId16" Type="http://schemas.openxmlformats.org/officeDocument/2006/relationships/slide" Target="slide69.xml"/><Relationship Id="rId17" Type="http://schemas.openxmlformats.org/officeDocument/2006/relationships/slide" Target="slide61.xml"/><Relationship Id="rId18" Type="http://schemas.openxmlformats.org/officeDocument/2006/relationships/slide" Target="slide66.xml"/><Relationship Id="rId19" Type="http://schemas.openxmlformats.org/officeDocument/2006/relationships/slide" Target="slide52.xml"/><Relationship Id="rId20" Type="http://schemas.openxmlformats.org/officeDocument/2006/relationships/slide" Target="slide70.xml"/><Relationship Id="rId21" Type="http://schemas.openxmlformats.org/officeDocument/2006/relationships/slide" Target="slide47.xml"/><Relationship Id="rId22" Type="http://schemas.openxmlformats.org/officeDocument/2006/relationships/slide" Target="slide57.xml"/><Relationship Id="rId23" Type="http://schemas.openxmlformats.org/officeDocument/2006/relationships/slide" Target="slide62.xml"/><Relationship Id="rId24" Type="http://schemas.openxmlformats.org/officeDocument/2006/relationships/slide" Target="slide67.xml"/><Relationship Id="rId25" Type="http://schemas.openxmlformats.org/officeDocument/2006/relationships/slide" Target="slide43.xml"/><Relationship Id="rId26" Type="http://schemas.openxmlformats.org/officeDocument/2006/relationships/slide" Target="slide63.xml"/><Relationship Id="rId27" Type="http://schemas.openxmlformats.org/officeDocument/2006/relationships/slide" Target="slide48.xml"/><Relationship Id="rId28" Type="http://schemas.openxmlformats.org/officeDocument/2006/relationships/slide" Target="slide53.xml"/><Relationship Id="rId29" Type="http://schemas.openxmlformats.org/officeDocument/2006/relationships/slide" Target="slide58.xml"/><Relationship Id="rId30" Type="http://schemas.openxmlformats.org/officeDocument/2006/relationships/slide" Target="slide68.xml"/><Relationship Id="rId31" Type="http://schemas.openxmlformats.org/officeDocument/2006/relationships/slide" Target="slide71.xml"/><Relationship Id="rId32" Type="http://schemas.openxmlformats.org/officeDocument/2006/relationships/audio" Target="../media/WHOOSH.WAV"/><Relationship Id="rId33" Type="http://schemas.openxmlformats.org/officeDocument/2006/relationships/audio" Target="../media/WHOOSH.WAV"/><Relationship Id="rId34" Type="http://schemas.openxmlformats.org/officeDocument/2006/relationships/audio" Target="../media/WHOOSH.WAV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audio" Target="../media/doh(1)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2.xml"/><Relationship Id="rId3" Type="http://schemas.openxmlformats.org/officeDocument/2006/relationships/slide" Target="slide16.xml"/><Relationship Id="rId4" Type="http://schemas.openxmlformats.org/officeDocument/2006/relationships/slide" Target="slide11.xml"/><Relationship Id="rId5" Type="http://schemas.openxmlformats.org/officeDocument/2006/relationships/slide" Target="slide27.xml"/><Relationship Id="rId6" Type="http://schemas.openxmlformats.org/officeDocument/2006/relationships/slide" Target="slide32.xml"/><Relationship Id="rId7" Type="http://schemas.openxmlformats.org/officeDocument/2006/relationships/slide" Target="slide7.xml"/><Relationship Id="rId8" Type="http://schemas.openxmlformats.org/officeDocument/2006/relationships/slide" Target="slide33.xml"/><Relationship Id="rId9" Type="http://schemas.openxmlformats.org/officeDocument/2006/relationships/slide" Target="slide28.xml"/><Relationship Id="rId10" Type="http://schemas.openxmlformats.org/officeDocument/2006/relationships/slide" Target="slide23.xml"/><Relationship Id="rId11" Type="http://schemas.openxmlformats.org/officeDocument/2006/relationships/slide" Target="slide17.xml"/><Relationship Id="rId12" Type="http://schemas.openxmlformats.org/officeDocument/2006/relationships/slide" Target="slide12.xml"/><Relationship Id="rId13" Type="http://schemas.openxmlformats.org/officeDocument/2006/relationships/slide" Target="slide8.xml"/><Relationship Id="rId14" Type="http://schemas.openxmlformats.org/officeDocument/2006/relationships/slide" Target="slide13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4.xml"/><Relationship Id="rId18" Type="http://schemas.openxmlformats.org/officeDocument/2006/relationships/slide" Target="slide29.xml"/><Relationship Id="rId19" Type="http://schemas.openxmlformats.org/officeDocument/2006/relationships/slide" Target="slide34.xml"/><Relationship Id="rId20" Type="http://schemas.openxmlformats.org/officeDocument/2006/relationships/slide" Target="slide9.xml"/><Relationship Id="rId21" Type="http://schemas.openxmlformats.org/officeDocument/2006/relationships/slide" Target="slide14.xml"/><Relationship Id="rId22" Type="http://schemas.openxmlformats.org/officeDocument/2006/relationships/slide" Target="slide25.xml"/><Relationship Id="rId23" Type="http://schemas.openxmlformats.org/officeDocument/2006/relationships/slide" Target="slide30.xml"/><Relationship Id="rId24" Type="http://schemas.openxmlformats.org/officeDocument/2006/relationships/slide" Target="slide35.xml"/><Relationship Id="rId25" Type="http://schemas.openxmlformats.org/officeDocument/2006/relationships/slide" Target="slide10.xml"/><Relationship Id="rId26" Type="http://schemas.openxmlformats.org/officeDocument/2006/relationships/slide" Target="slide31.xml"/><Relationship Id="rId27" Type="http://schemas.openxmlformats.org/officeDocument/2006/relationships/slide" Target="slide15.xml"/><Relationship Id="rId28" Type="http://schemas.openxmlformats.org/officeDocument/2006/relationships/slide" Target="slide20.xml"/><Relationship Id="rId29" Type="http://schemas.openxmlformats.org/officeDocument/2006/relationships/slide" Target="slide20.xml"/><Relationship Id="rId30" Type="http://schemas.openxmlformats.org/officeDocument/2006/relationships/slide" Target="slide26.xml"/><Relationship Id="rId31" Type="http://schemas.openxmlformats.org/officeDocument/2006/relationships/slide" Target="slide36.xml"/><Relationship Id="rId32" Type="http://schemas.openxmlformats.org/officeDocument/2006/relationships/slide" Target="slide37.xml"/><Relationship Id="rId33" Type="http://schemas.openxmlformats.org/officeDocument/2006/relationships/slide" Target="slide19.xml"/><Relationship Id="rId34" Type="http://schemas.openxmlformats.org/officeDocument/2006/relationships/audio" Target="../media/boardfill.wav"/><Relationship Id="rId35" Type="http://schemas.openxmlformats.org/officeDocument/2006/relationships/audio" Target="../media/WHOOSH.WAV"/><Relationship Id="rId36" Type="http://schemas.openxmlformats.org/officeDocument/2006/relationships/audio" Target="../media/WHOOSH.WAV"/><Relationship Id="rId37" Type="http://schemas.openxmlformats.org/officeDocument/2006/relationships/audio" Target="../media/WHOOSH.WAV"/><Relationship Id="rId38" Type="http://schemas.openxmlformats.org/officeDocument/2006/relationships/audio" Target="../media/WHOOSH.WAV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doh(1)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dailydoubl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dailydoubl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thinkthe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560" y="2133360"/>
            <a:ext cx="10667880" cy="2057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11500"/>
            </a:br>
            <a:br>
              <a:rPr sz="11500"/>
            </a:br>
            <a:r>
              <a:rPr b="0" lang="en-US" sz="11500" spc="-1" strike="noStrike">
                <a:solidFill>
                  <a:srgbClr val="ffffff"/>
                </a:solidFill>
                <a:latin typeface="Impact"/>
              </a:rPr>
              <a:t>Jeopardy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Bonding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y do atoms bo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o obtain a stable electron configur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>
            <a:hlinkClick r:id="rId1" action="ppaction://hlinksldjump"/>
          </p:cNvPr>
          <p:cNvSpPr/>
          <p:nvPr/>
        </p:nvSpPr>
        <p:spPr>
          <a:xfrm>
            <a:off x="6553080" y="777240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19" h="21600">
                <a:moveTo>
                  <a:pt x="1420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19" h="21600">
                <a:moveTo>
                  <a:pt x="15315" y="14281"/>
                </a:moveTo>
                <a:lnTo>
                  <a:pt x="15315" y="12323"/>
                </a:lnTo>
                <a:cubicBezTo>
                  <a:pt x="15315" y="11496"/>
                  <a:pt x="15646" y="10800"/>
                  <a:pt x="16246" y="10800"/>
                </a:cubicBezTo>
                <a:cubicBezTo>
                  <a:pt x="17378" y="10800"/>
                  <a:pt x="18274" y="9434"/>
                  <a:pt x="18274" y="7849"/>
                </a:cubicBezTo>
                <a:cubicBezTo>
                  <a:pt x="18274" y="5534"/>
                  <a:pt x="16420" y="3794"/>
                  <a:pt x="14209" y="3794"/>
                </a:cubicBezTo>
                <a:cubicBezTo>
                  <a:pt x="11999" y="3794"/>
                  <a:pt x="10328" y="5534"/>
                  <a:pt x="10328" y="7849"/>
                </a:cubicBezTo>
                <a:lnTo>
                  <a:pt x="12181" y="7849"/>
                </a:lnTo>
                <a:cubicBezTo>
                  <a:pt x="12181" y="6709"/>
                  <a:pt x="13104" y="5821"/>
                  <a:pt x="14209" y="5821"/>
                </a:cubicBezTo>
                <a:cubicBezTo>
                  <a:pt x="15315" y="5821"/>
                  <a:pt x="16246" y="6709"/>
                  <a:pt x="16246" y="7849"/>
                </a:cubicBezTo>
                <a:cubicBezTo>
                  <a:pt x="16246" y="8589"/>
                  <a:pt x="15776" y="9320"/>
                  <a:pt x="15315" y="9320"/>
                </a:cubicBezTo>
                <a:cubicBezTo>
                  <a:pt x="14209" y="9320"/>
                  <a:pt x="13104" y="10800"/>
                  <a:pt x="13104" y="12323"/>
                </a:cubicBezTo>
                <a:lnTo>
                  <a:pt x="1310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Ions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Over 80 percent of the atoms on the periodic table form what type of 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>
            <a:hlinkClick r:id="rId1" action="ppaction://hlinksldjump"/>
          </p:cNvPr>
          <p:cNvSpPr/>
          <p:nvPr/>
        </p:nvSpPr>
        <p:spPr>
          <a:xfrm>
            <a:off x="12268080" y="7467480"/>
            <a:ext cx="1752840" cy="1524240"/>
          </a:xfrm>
          <a:custGeom>
            <a:avLst/>
            <a:gdLst>
              <a:gd name="textAreaLeft" fmla="*/ 98640 w 1752840"/>
              <a:gd name="textAreaRight" fmla="*/ 1654200 w 175284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1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5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19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1" y="7849"/>
                </a:lnTo>
                <a:cubicBezTo>
                  <a:pt x="10391" y="6709"/>
                  <a:pt x="11314" y="5821"/>
                  <a:pt x="12419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19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Ions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132145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chemical family always forms an ion with a 2+ charg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lkaline earth meta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Ions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chemical family always forms an ion with a 1- charg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A  Haloge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>
            <a:hlinkClick r:id="rId1" action="ppaction://hlinksldjump"/>
          </p:cNvPr>
          <p:cNvSpPr/>
          <p:nvPr/>
        </p:nvSpPr>
        <p:spPr>
          <a:xfrm>
            <a:off x="6781680" y="7315200"/>
            <a:ext cx="1752840" cy="1676520"/>
          </a:xfrm>
          <a:custGeom>
            <a:avLst/>
            <a:gdLst>
              <a:gd name="textAreaLeft" fmla="*/ 108360 w 1752840"/>
              <a:gd name="textAreaRight" fmla="*/ 1644480 w 17528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2583" h="21600">
                <a:moveTo>
                  <a:pt x="0" y="0"/>
                </a:moveTo>
                <a:lnTo>
                  <a:pt x="22583" y="0"/>
                </a:lnTo>
                <a:lnTo>
                  <a:pt x="22583" y="21600"/>
                </a:lnTo>
                <a:lnTo>
                  <a:pt x="0" y="21600"/>
                </a:lnTo>
                <a:close/>
              </a:path>
              <a:path fill="lightenLess" w="22583" h="21600">
                <a:moveTo>
                  <a:pt x="0" y="0"/>
                </a:moveTo>
                <a:lnTo>
                  <a:pt x="22583" y="0"/>
                </a:lnTo>
                <a:lnTo>
                  <a:pt x="21183" y="1400"/>
                </a:lnTo>
                <a:lnTo>
                  <a:pt x="1400" y="1400"/>
                </a:lnTo>
                <a:close/>
              </a:path>
              <a:path fill="darken" w="22583" h="21600">
                <a:moveTo>
                  <a:pt x="22583" y="0"/>
                </a:moveTo>
                <a:lnTo>
                  <a:pt x="22583" y="21600"/>
                </a:lnTo>
                <a:lnTo>
                  <a:pt x="21183" y="20200"/>
                </a:lnTo>
                <a:lnTo>
                  <a:pt x="21183" y="1400"/>
                </a:lnTo>
                <a:close/>
              </a:path>
              <a:path fill="darkenLess" w="22583" h="21600">
                <a:moveTo>
                  <a:pt x="22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3" y="20200"/>
                </a:lnTo>
                <a:close/>
              </a:path>
              <a:path fill="lighten" w="22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3" h="21600">
                <a:moveTo>
                  <a:pt x="1129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583" h="21600">
                <a:moveTo>
                  <a:pt x="12397" y="14281"/>
                </a:moveTo>
                <a:lnTo>
                  <a:pt x="12397" y="12323"/>
                </a:lnTo>
                <a:cubicBezTo>
                  <a:pt x="12397" y="11496"/>
                  <a:pt x="12728" y="10800"/>
                  <a:pt x="13328" y="10800"/>
                </a:cubicBezTo>
                <a:cubicBezTo>
                  <a:pt x="14460" y="10800"/>
                  <a:pt x="15356" y="9434"/>
                  <a:pt x="15356" y="7849"/>
                </a:cubicBezTo>
                <a:cubicBezTo>
                  <a:pt x="15356" y="5534"/>
                  <a:pt x="13502" y="3794"/>
                  <a:pt x="11292" y="3794"/>
                </a:cubicBezTo>
                <a:cubicBezTo>
                  <a:pt x="9081" y="3794"/>
                  <a:pt x="7410" y="5534"/>
                  <a:pt x="7410" y="7849"/>
                </a:cubicBezTo>
                <a:lnTo>
                  <a:pt x="9264" y="7849"/>
                </a:lnTo>
                <a:cubicBezTo>
                  <a:pt x="9264" y="6709"/>
                  <a:pt x="10186" y="5821"/>
                  <a:pt x="11292" y="5821"/>
                </a:cubicBezTo>
                <a:cubicBezTo>
                  <a:pt x="12397" y="5821"/>
                  <a:pt x="13328" y="6709"/>
                  <a:pt x="13328" y="7849"/>
                </a:cubicBezTo>
                <a:cubicBezTo>
                  <a:pt x="13328" y="8589"/>
                  <a:pt x="12858" y="9320"/>
                  <a:pt x="12397" y="9320"/>
                </a:cubicBezTo>
                <a:cubicBezTo>
                  <a:pt x="11292" y="9320"/>
                  <a:pt x="10186" y="10800"/>
                  <a:pt x="10186" y="12323"/>
                </a:cubicBezTo>
                <a:lnTo>
                  <a:pt x="1018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Ions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65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imes New Roman"/>
              </a:rPr>
              <a:t>Q   If aluminum forms an ion, its electron configuration would resemble that of which noble ga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65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A  Ne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">
            <a:hlinkClick r:id="rId1" action="ppaction://hlinksldjump"/>
          </p:cNvPr>
          <p:cNvSpPr/>
          <p:nvPr/>
        </p:nvSpPr>
        <p:spPr>
          <a:xfrm>
            <a:off x="7315200" y="731520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Ions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ions would be attracted to a cathode r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a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>
            <a:hlinkClick r:id="rId1" action="ppaction://hlinksldjump"/>
          </p:cNvPr>
          <p:cNvSpPr/>
          <p:nvPr/>
        </p:nvSpPr>
        <p:spPr>
          <a:xfrm>
            <a:off x="8534520" y="7620120"/>
            <a:ext cx="1600200" cy="167616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76160"/>
              <a:gd name="textAreaBottom" fmla="*/ 1572480 h 1676160"/>
            </a:gdLst>
            <a:ahLst/>
            <a:rect l="textAreaLeft" t="textAreaTop" r="textAreaRight" b="textAreaBottom"/>
            <a:pathLst>
              <a:path w="21600" h="22625">
                <a:moveTo>
                  <a:pt x="0" y="0"/>
                </a:moveTo>
                <a:lnTo>
                  <a:pt x="21600" y="0"/>
                </a:lnTo>
                <a:lnTo>
                  <a:pt x="21600" y="22625"/>
                </a:lnTo>
                <a:lnTo>
                  <a:pt x="0" y="22625"/>
                </a:lnTo>
                <a:close/>
              </a:path>
              <a:path fill="lightenLess" w="21600" h="226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5">
                <a:moveTo>
                  <a:pt x="21600" y="0"/>
                </a:moveTo>
                <a:lnTo>
                  <a:pt x="21600" y="22625"/>
                </a:lnTo>
                <a:lnTo>
                  <a:pt x="20200" y="21225"/>
                </a:lnTo>
                <a:lnTo>
                  <a:pt x="20200" y="1400"/>
                </a:lnTo>
                <a:close/>
              </a:path>
              <a:path fill="darkenLess" w="21600" h="22625">
                <a:moveTo>
                  <a:pt x="21600" y="22625"/>
                </a:moveTo>
                <a:lnTo>
                  <a:pt x="0" y="22625"/>
                </a:lnTo>
                <a:lnTo>
                  <a:pt x="1400" y="21225"/>
                </a:lnTo>
                <a:lnTo>
                  <a:pt x="20200" y="21225"/>
                </a:lnTo>
                <a:close/>
              </a:path>
              <a:path fill="lighten" w="21600" h="22625">
                <a:moveTo>
                  <a:pt x="0" y="226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5"/>
                </a:lnTo>
                <a:close/>
              </a:path>
              <a:path fill="darken" w="21600" h="22625">
                <a:moveTo>
                  <a:pt x="10800" y="1531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25">
                <a:moveTo>
                  <a:pt x="11905" y="14794"/>
                </a:moveTo>
                <a:lnTo>
                  <a:pt x="11905" y="12836"/>
                </a:lnTo>
                <a:cubicBezTo>
                  <a:pt x="11905" y="12009"/>
                  <a:pt x="12236" y="11313"/>
                  <a:pt x="12837" y="11313"/>
                </a:cubicBezTo>
                <a:cubicBezTo>
                  <a:pt x="13968" y="11313"/>
                  <a:pt x="14865" y="9946"/>
                  <a:pt x="14865" y="8362"/>
                </a:cubicBezTo>
                <a:cubicBezTo>
                  <a:pt x="14865" y="6047"/>
                  <a:pt x="13011" y="4306"/>
                  <a:pt x="10800" y="4306"/>
                </a:cubicBezTo>
                <a:cubicBezTo>
                  <a:pt x="8589" y="4306"/>
                  <a:pt x="6918" y="6047"/>
                  <a:pt x="6918" y="8362"/>
                </a:cubicBezTo>
                <a:lnTo>
                  <a:pt x="8772" y="8362"/>
                </a:lnTo>
                <a:cubicBezTo>
                  <a:pt x="8772" y="7222"/>
                  <a:pt x="9695" y="6334"/>
                  <a:pt x="10800" y="6334"/>
                </a:cubicBezTo>
                <a:cubicBezTo>
                  <a:pt x="11905" y="6334"/>
                  <a:pt x="12837" y="7222"/>
                  <a:pt x="12837" y="8362"/>
                </a:cubicBezTo>
                <a:cubicBezTo>
                  <a:pt x="12837" y="9102"/>
                  <a:pt x="12367" y="9833"/>
                  <a:pt x="11905" y="9833"/>
                </a:cubicBezTo>
                <a:cubicBezTo>
                  <a:pt x="10800" y="9833"/>
                  <a:pt x="9695" y="11313"/>
                  <a:pt x="9695" y="12836"/>
                </a:cubicBezTo>
                <a:lnTo>
                  <a:pt x="9695" y="1479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etals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 Do metals gain or lose electrons when forming i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lo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>
            <a:hlinkClick r:id="rId1" action="ppaction://hlinksldjump"/>
          </p:cNvPr>
          <p:cNvSpPr/>
          <p:nvPr/>
        </p:nvSpPr>
        <p:spPr>
          <a:xfrm>
            <a:off x="7086600" y="73915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etals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ame for a mixture of metal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llo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>
            <a:hlinkClick r:id="rId1" action="ppaction://hlinksldjump"/>
          </p:cNvPr>
          <p:cNvSpPr/>
          <p:nvPr/>
        </p:nvSpPr>
        <p:spPr>
          <a:xfrm>
            <a:off x="9753480" y="7696080"/>
            <a:ext cx="1676520" cy="1447920"/>
          </a:xfrm>
          <a:custGeom>
            <a:avLst/>
            <a:gdLst>
              <a:gd name="textAreaLeft" fmla="*/ 93600 w 1676520"/>
              <a:gd name="textAreaRight" fmla="*/ 1582920 w 16765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9" h="21600">
                <a:moveTo>
                  <a:pt x="0" y="0"/>
                </a:moveTo>
                <a:lnTo>
                  <a:pt x="25009" y="0"/>
                </a:lnTo>
                <a:lnTo>
                  <a:pt x="25009" y="21600"/>
                </a:lnTo>
                <a:lnTo>
                  <a:pt x="0" y="21600"/>
                </a:lnTo>
                <a:close/>
              </a:path>
              <a:path fill="lightenLess" w="25009" h="21600">
                <a:moveTo>
                  <a:pt x="0" y="0"/>
                </a:moveTo>
                <a:lnTo>
                  <a:pt x="25009" y="0"/>
                </a:lnTo>
                <a:lnTo>
                  <a:pt x="23609" y="1400"/>
                </a:lnTo>
                <a:lnTo>
                  <a:pt x="1400" y="1400"/>
                </a:lnTo>
                <a:close/>
              </a:path>
              <a:path fill="darken" w="25009" h="21600">
                <a:moveTo>
                  <a:pt x="25009" y="0"/>
                </a:moveTo>
                <a:lnTo>
                  <a:pt x="25009" y="21600"/>
                </a:lnTo>
                <a:lnTo>
                  <a:pt x="23609" y="20200"/>
                </a:lnTo>
                <a:lnTo>
                  <a:pt x="23609" y="1400"/>
                </a:lnTo>
                <a:close/>
              </a:path>
              <a:path fill="darkenLess" w="25009" h="21600">
                <a:moveTo>
                  <a:pt x="25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9" y="20200"/>
                </a:lnTo>
                <a:close/>
              </a:path>
              <a:path fill="lighten" w="25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9" h="21600">
                <a:moveTo>
                  <a:pt x="125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009" h="21600">
                <a:moveTo>
                  <a:pt x="13610" y="14281"/>
                </a:moveTo>
                <a:lnTo>
                  <a:pt x="13610" y="12323"/>
                </a:lnTo>
                <a:cubicBezTo>
                  <a:pt x="13610" y="11496"/>
                  <a:pt x="13941" y="10800"/>
                  <a:pt x="14541" y="10800"/>
                </a:cubicBezTo>
                <a:cubicBezTo>
                  <a:pt x="15673" y="10800"/>
                  <a:pt x="16569" y="9434"/>
                  <a:pt x="16569" y="7849"/>
                </a:cubicBezTo>
                <a:cubicBezTo>
                  <a:pt x="16569" y="5534"/>
                  <a:pt x="14715" y="3794"/>
                  <a:pt x="12505" y="3794"/>
                </a:cubicBezTo>
                <a:cubicBezTo>
                  <a:pt x="10294" y="3794"/>
                  <a:pt x="8623" y="5534"/>
                  <a:pt x="8623" y="7849"/>
                </a:cubicBezTo>
                <a:lnTo>
                  <a:pt x="10477" y="7849"/>
                </a:lnTo>
                <a:cubicBezTo>
                  <a:pt x="10477" y="6709"/>
                  <a:pt x="11399" y="5821"/>
                  <a:pt x="12505" y="5821"/>
                </a:cubicBezTo>
                <a:cubicBezTo>
                  <a:pt x="13610" y="5821"/>
                  <a:pt x="14541" y="6709"/>
                  <a:pt x="14541" y="7849"/>
                </a:cubicBezTo>
                <a:cubicBezTo>
                  <a:pt x="14541" y="8589"/>
                  <a:pt x="14071" y="9320"/>
                  <a:pt x="13610" y="9320"/>
                </a:cubicBezTo>
                <a:cubicBezTo>
                  <a:pt x="12505" y="9320"/>
                  <a:pt x="11399" y="10800"/>
                  <a:pt x="11399" y="12323"/>
                </a:cubicBezTo>
                <a:lnTo>
                  <a:pt x="11399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etals for 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65320" y="2904840"/>
            <a:ext cx="13214160" cy="37242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property of metals that describes its ability to be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>
            <a:hlinkClick r:id="rId1" action="ppaction://hlinksldjump"/>
          </p:cNvPr>
          <p:cNvSpPr/>
          <p:nvPr/>
        </p:nvSpPr>
        <p:spPr>
          <a:xfrm>
            <a:off x="7315200" y="784872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163520" y="6324480"/>
            <a:ext cx="132145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Malleability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etals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312800" cy="11332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52000"/>
          </a:bodyPr>
          <a:p>
            <a:pPr marL="199440" indent="-19944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Q  Metallic bonding is described as metal ions floating in a “what”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1994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>
            <a:hlinkClick r:id="rId1" action="ppaction://hlinksldjump"/>
          </p:cNvPr>
          <p:cNvSpPr/>
          <p:nvPr/>
        </p:nvSpPr>
        <p:spPr>
          <a:xfrm>
            <a:off x="6705720" y="7772400"/>
            <a:ext cx="2209680" cy="1676520"/>
          </a:xfrm>
          <a:custGeom>
            <a:avLst/>
            <a:gdLst>
              <a:gd name="textAreaLeft" fmla="*/ 108360 w 2209680"/>
              <a:gd name="textAreaRight" fmla="*/ 2101320 w 22096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68" h="21600">
                <a:moveTo>
                  <a:pt x="0" y="0"/>
                </a:moveTo>
                <a:lnTo>
                  <a:pt x="28468" y="0"/>
                </a:lnTo>
                <a:lnTo>
                  <a:pt x="28468" y="21600"/>
                </a:lnTo>
                <a:lnTo>
                  <a:pt x="0" y="21600"/>
                </a:lnTo>
                <a:close/>
              </a:path>
              <a:path fill="lightenLess" w="28468" h="21600">
                <a:moveTo>
                  <a:pt x="0" y="0"/>
                </a:moveTo>
                <a:lnTo>
                  <a:pt x="28468" y="0"/>
                </a:lnTo>
                <a:lnTo>
                  <a:pt x="27068" y="1400"/>
                </a:lnTo>
                <a:lnTo>
                  <a:pt x="1400" y="1400"/>
                </a:lnTo>
                <a:close/>
              </a:path>
              <a:path fill="darken" w="28468" h="21600">
                <a:moveTo>
                  <a:pt x="28468" y="0"/>
                </a:moveTo>
                <a:lnTo>
                  <a:pt x="28468" y="21600"/>
                </a:lnTo>
                <a:lnTo>
                  <a:pt x="27068" y="20200"/>
                </a:lnTo>
                <a:lnTo>
                  <a:pt x="27068" y="1400"/>
                </a:lnTo>
                <a:close/>
              </a:path>
              <a:path fill="darkenLess" w="28468" h="21600">
                <a:moveTo>
                  <a:pt x="28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68" y="20200"/>
                </a:lnTo>
                <a:close/>
              </a:path>
              <a:path fill="lighten" w="28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68" h="21600">
                <a:moveTo>
                  <a:pt x="1423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68" h="21600">
                <a:moveTo>
                  <a:pt x="15339" y="14281"/>
                </a:moveTo>
                <a:lnTo>
                  <a:pt x="15339" y="12323"/>
                </a:lnTo>
                <a:cubicBezTo>
                  <a:pt x="15339" y="11496"/>
                  <a:pt x="15670" y="10800"/>
                  <a:pt x="16271" y="10800"/>
                </a:cubicBezTo>
                <a:cubicBezTo>
                  <a:pt x="17402" y="10800"/>
                  <a:pt x="18298" y="9434"/>
                  <a:pt x="18298" y="7849"/>
                </a:cubicBezTo>
                <a:cubicBezTo>
                  <a:pt x="18298" y="5534"/>
                  <a:pt x="16445" y="3794"/>
                  <a:pt x="14234" y="3794"/>
                </a:cubicBezTo>
                <a:cubicBezTo>
                  <a:pt x="12023" y="3794"/>
                  <a:pt x="10352" y="5534"/>
                  <a:pt x="10352" y="7849"/>
                </a:cubicBezTo>
                <a:lnTo>
                  <a:pt x="12206" y="7849"/>
                </a:lnTo>
                <a:cubicBezTo>
                  <a:pt x="12206" y="6709"/>
                  <a:pt x="13128" y="5821"/>
                  <a:pt x="14234" y="5821"/>
                </a:cubicBezTo>
                <a:cubicBezTo>
                  <a:pt x="15339" y="5821"/>
                  <a:pt x="16271" y="6709"/>
                  <a:pt x="16271" y="7849"/>
                </a:cubicBezTo>
                <a:cubicBezTo>
                  <a:pt x="16271" y="8589"/>
                  <a:pt x="15801" y="9320"/>
                  <a:pt x="15339" y="9320"/>
                </a:cubicBezTo>
                <a:cubicBezTo>
                  <a:pt x="14234" y="9320"/>
                  <a:pt x="13128" y="10800"/>
                  <a:pt x="13128" y="12323"/>
                </a:cubicBezTo>
                <a:lnTo>
                  <a:pt x="13128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219320" y="5257800"/>
            <a:ext cx="13214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Sea of Electrons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1321452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8800" spc="-1" strike="noStrike" u="sng">
                <a:solidFill>
                  <a:srgbClr val="ffffff"/>
                </a:solidFill>
                <a:uFillTx/>
                <a:latin typeface="Times New Roman"/>
              </a:rPr>
              <a:t>GAME RULES: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13214520" cy="7848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om split into 2 teams (RIGHT Vs. LEF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nner of the coin toss decides the firs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ch team will have 1 person compete at a ti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the team answers incorrectly the other team has a chance to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think you know the answer raise your h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core will be kept on th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re is 1 Daily Double question in the first round, 2 in Double Jeopardy, which are worth any amount that the team wishes to be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50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Daily Doubl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How Much will you Wager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ailydoubl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etals for 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What type of alloy is formed from atoms that differ in siz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Interstitial Allo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>
            <a:hlinkClick r:id="rId1" action="ppaction://hlinksldjump"/>
          </p:cNvPr>
          <p:cNvSpPr/>
          <p:nvPr/>
        </p:nvSpPr>
        <p:spPr>
          <a:xfrm>
            <a:off x="7162920" y="7543800"/>
            <a:ext cx="1447560" cy="144792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148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5">
                <a:moveTo>
                  <a:pt x="11905" y="14284"/>
                </a:moveTo>
                <a:lnTo>
                  <a:pt x="11905" y="12326"/>
                </a:lnTo>
                <a:cubicBezTo>
                  <a:pt x="11905" y="11499"/>
                  <a:pt x="12236" y="10803"/>
                  <a:pt x="12837" y="10803"/>
                </a:cubicBezTo>
                <a:cubicBezTo>
                  <a:pt x="13968" y="10803"/>
                  <a:pt x="14865" y="9436"/>
                  <a:pt x="14865" y="7852"/>
                </a:cubicBezTo>
                <a:cubicBezTo>
                  <a:pt x="14865" y="5537"/>
                  <a:pt x="13011" y="3796"/>
                  <a:pt x="10800" y="3796"/>
                </a:cubicBezTo>
                <a:cubicBezTo>
                  <a:pt x="8589" y="3796"/>
                  <a:pt x="6918" y="5537"/>
                  <a:pt x="6918" y="7852"/>
                </a:cubicBezTo>
                <a:lnTo>
                  <a:pt x="8772" y="7852"/>
                </a:lnTo>
                <a:cubicBezTo>
                  <a:pt x="8772" y="6712"/>
                  <a:pt x="9695" y="5824"/>
                  <a:pt x="10800" y="5824"/>
                </a:cubicBezTo>
                <a:cubicBezTo>
                  <a:pt x="11905" y="5824"/>
                  <a:pt x="12837" y="6712"/>
                  <a:pt x="12837" y="7852"/>
                </a:cubicBezTo>
                <a:cubicBezTo>
                  <a:pt x="12837" y="8592"/>
                  <a:pt x="12367" y="9323"/>
                  <a:pt x="11905" y="9323"/>
                </a:cubicBezTo>
                <a:cubicBezTo>
                  <a:pt x="10800" y="9323"/>
                  <a:pt x="9695" y="10803"/>
                  <a:pt x="9695" y="12326"/>
                </a:cubicBezTo>
                <a:lnTo>
                  <a:pt x="9695" y="1428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haracteristics of </a:t>
            </a:r>
            <a:br>
              <a:rPr sz="7200"/>
            </a:b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onic Compounds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charge of an ionic compou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Zero (neutral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>
            <a:hlinkClick r:id="rId1" action="ppaction://hlinksldjump"/>
          </p:cNvPr>
          <p:cNvSpPr/>
          <p:nvPr/>
        </p:nvSpPr>
        <p:spPr>
          <a:xfrm>
            <a:off x="12344400" y="7391520"/>
            <a:ext cx="1523880" cy="1218960"/>
          </a:xfrm>
          <a:custGeom>
            <a:avLst/>
            <a:gdLst>
              <a:gd name="textAreaLeft" fmla="*/ 78840 w 1523880"/>
              <a:gd name="textAreaRight" fmla="*/ 1445040 w 152388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7002" h="21600">
                <a:moveTo>
                  <a:pt x="0" y="0"/>
                </a:moveTo>
                <a:lnTo>
                  <a:pt x="27002" y="0"/>
                </a:lnTo>
                <a:lnTo>
                  <a:pt x="27002" y="21600"/>
                </a:lnTo>
                <a:lnTo>
                  <a:pt x="0" y="21600"/>
                </a:lnTo>
                <a:close/>
              </a:path>
              <a:path fill="lightenLess" w="27002" h="21600">
                <a:moveTo>
                  <a:pt x="0" y="0"/>
                </a:moveTo>
                <a:lnTo>
                  <a:pt x="27002" y="0"/>
                </a:lnTo>
                <a:lnTo>
                  <a:pt x="25602" y="1400"/>
                </a:lnTo>
                <a:lnTo>
                  <a:pt x="1400" y="1400"/>
                </a:lnTo>
                <a:close/>
              </a:path>
              <a:path fill="darken" w="27002" h="21600">
                <a:moveTo>
                  <a:pt x="27002" y="0"/>
                </a:moveTo>
                <a:lnTo>
                  <a:pt x="27002" y="21600"/>
                </a:lnTo>
                <a:lnTo>
                  <a:pt x="25602" y="20200"/>
                </a:lnTo>
                <a:lnTo>
                  <a:pt x="25602" y="1400"/>
                </a:lnTo>
                <a:close/>
              </a:path>
              <a:path fill="darkenLess" w="27002" h="21600">
                <a:moveTo>
                  <a:pt x="270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2" y="20200"/>
                </a:lnTo>
                <a:close/>
              </a:path>
              <a:path fill="lighten" w="270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2" h="21600">
                <a:moveTo>
                  <a:pt x="135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2" h="21600">
                <a:moveTo>
                  <a:pt x="14606" y="14281"/>
                </a:moveTo>
                <a:lnTo>
                  <a:pt x="14606" y="12323"/>
                </a:lnTo>
                <a:cubicBezTo>
                  <a:pt x="14606" y="11496"/>
                  <a:pt x="14937" y="10800"/>
                  <a:pt x="15537" y="10800"/>
                </a:cubicBezTo>
                <a:cubicBezTo>
                  <a:pt x="16669" y="10800"/>
                  <a:pt x="17565" y="9434"/>
                  <a:pt x="17565" y="7849"/>
                </a:cubicBezTo>
                <a:cubicBezTo>
                  <a:pt x="17565" y="5534"/>
                  <a:pt x="15712" y="3794"/>
                  <a:pt x="13501" y="3794"/>
                </a:cubicBezTo>
                <a:cubicBezTo>
                  <a:pt x="11290" y="3794"/>
                  <a:pt x="9619" y="5534"/>
                  <a:pt x="9619" y="7849"/>
                </a:cubicBezTo>
                <a:lnTo>
                  <a:pt x="11473" y="7849"/>
                </a:lnTo>
                <a:cubicBezTo>
                  <a:pt x="11473" y="6709"/>
                  <a:pt x="12395" y="5821"/>
                  <a:pt x="13501" y="5821"/>
                </a:cubicBezTo>
                <a:cubicBezTo>
                  <a:pt x="14606" y="5821"/>
                  <a:pt x="15537" y="6709"/>
                  <a:pt x="15537" y="7849"/>
                </a:cubicBezTo>
                <a:cubicBezTo>
                  <a:pt x="15537" y="8589"/>
                  <a:pt x="15067" y="9320"/>
                  <a:pt x="14606" y="9320"/>
                </a:cubicBezTo>
                <a:cubicBezTo>
                  <a:pt x="13501" y="9320"/>
                  <a:pt x="12395" y="10800"/>
                  <a:pt x="12395" y="12323"/>
                </a:cubicBezTo>
                <a:lnTo>
                  <a:pt x="123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haracteristics of </a:t>
            </a:r>
            <a:br>
              <a:rPr sz="7200"/>
            </a:b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onic Compounds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solids are ionic solid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rystalli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4">
            <a:hlinkClick r:id="rId1" action="ppaction://hlinksldjump"/>
          </p:cNvPr>
          <p:cNvSpPr/>
          <p:nvPr/>
        </p:nvSpPr>
        <p:spPr>
          <a:xfrm>
            <a:off x="10591920" y="7772400"/>
            <a:ext cx="2209680" cy="1676520"/>
          </a:xfrm>
          <a:custGeom>
            <a:avLst/>
            <a:gdLst>
              <a:gd name="textAreaLeft" fmla="*/ 108360 w 2209680"/>
              <a:gd name="textAreaRight" fmla="*/ 2101320 w 22096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68" h="21600">
                <a:moveTo>
                  <a:pt x="0" y="0"/>
                </a:moveTo>
                <a:lnTo>
                  <a:pt x="28468" y="0"/>
                </a:lnTo>
                <a:lnTo>
                  <a:pt x="28468" y="21600"/>
                </a:lnTo>
                <a:lnTo>
                  <a:pt x="0" y="21600"/>
                </a:lnTo>
                <a:close/>
              </a:path>
              <a:path fill="lightenLess" w="28468" h="21600">
                <a:moveTo>
                  <a:pt x="0" y="0"/>
                </a:moveTo>
                <a:lnTo>
                  <a:pt x="28468" y="0"/>
                </a:lnTo>
                <a:lnTo>
                  <a:pt x="27068" y="1400"/>
                </a:lnTo>
                <a:lnTo>
                  <a:pt x="1400" y="1400"/>
                </a:lnTo>
                <a:close/>
              </a:path>
              <a:path fill="darken" w="28468" h="21600">
                <a:moveTo>
                  <a:pt x="28468" y="0"/>
                </a:moveTo>
                <a:lnTo>
                  <a:pt x="28468" y="21600"/>
                </a:lnTo>
                <a:lnTo>
                  <a:pt x="27068" y="20200"/>
                </a:lnTo>
                <a:lnTo>
                  <a:pt x="27068" y="1400"/>
                </a:lnTo>
                <a:close/>
              </a:path>
              <a:path fill="darkenLess" w="28468" h="21600">
                <a:moveTo>
                  <a:pt x="28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68" y="20200"/>
                </a:lnTo>
                <a:close/>
              </a:path>
              <a:path fill="lighten" w="28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68" h="21600">
                <a:moveTo>
                  <a:pt x="1423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68" h="21600">
                <a:moveTo>
                  <a:pt x="15339" y="14281"/>
                </a:moveTo>
                <a:lnTo>
                  <a:pt x="15339" y="12323"/>
                </a:lnTo>
                <a:cubicBezTo>
                  <a:pt x="15339" y="11496"/>
                  <a:pt x="15670" y="10800"/>
                  <a:pt x="16271" y="10800"/>
                </a:cubicBezTo>
                <a:cubicBezTo>
                  <a:pt x="17402" y="10800"/>
                  <a:pt x="18298" y="9434"/>
                  <a:pt x="18298" y="7849"/>
                </a:cubicBezTo>
                <a:cubicBezTo>
                  <a:pt x="18298" y="5534"/>
                  <a:pt x="16445" y="3794"/>
                  <a:pt x="14234" y="3794"/>
                </a:cubicBezTo>
                <a:cubicBezTo>
                  <a:pt x="12023" y="3794"/>
                  <a:pt x="10352" y="5534"/>
                  <a:pt x="10352" y="7849"/>
                </a:cubicBezTo>
                <a:lnTo>
                  <a:pt x="12206" y="7849"/>
                </a:lnTo>
                <a:cubicBezTo>
                  <a:pt x="12206" y="6709"/>
                  <a:pt x="13128" y="5821"/>
                  <a:pt x="14234" y="5821"/>
                </a:cubicBezTo>
                <a:cubicBezTo>
                  <a:pt x="15339" y="5821"/>
                  <a:pt x="16271" y="6709"/>
                  <a:pt x="16271" y="7849"/>
                </a:cubicBezTo>
                <a:cubicBezTo>
                  <a:pt x="16271" y="8589"/>
                  <a:pt x="15801" y="9320"/>
                  <a:pt x="15339" y="9320"/>
                </a:cubicBezTo>
                <a:cubicBezTo>
                  <a:pt x="14234" y="9320"/>
                  <a:pt x="13128" y="10800"/>
                  <a:pt x="13128" y="12323"/>
                </a:cubicBezTo>
                <a:lnTo>
                  <a:pt x="13128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haracteristics of </a:t>
            </a:r>
            <a:br>
              <a:rPr sz="7200"/>
            </a:b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onic Compounds for 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Name one general characteristic of ionic compounds besides conductivity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High melting point, etc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4">
            <a:hlinkClick r:id="rId1" action="ppaction://hlinksldjump"/>
          </p:cNvPr>
          <p:cNvSpPr/>
          <p:nvPr/>
        </p:nvSpPr>
        <p:spPr>
          <a:xfrm>
            <a:off x="7315200" y="739152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119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97" h="21600">
                <a:moveTo>
                  <a:pt x="13104" y="14281"/>
                </a:moveTo>
                <a:lnTo>
                  <a:pt x="13104" y="12323"/>
                </a:lnTo>
                <a:cubicBezTo>
                  <a:pt x="13104" y="11496"/>
                  <a:pt x="13435" y="10800"/>
                  <a:pt x="14035" y="10800"/>
                </a:cubicBezTo>
                <a:cubicBezTo>
                  <a:pt x="15167" y="10800"/>
                  <a:pt x="16063" y="9434"/>
                  <a:pt x="16063" y="7849"/>
                </a:cubicBezTo>
                <a:cubicBezTo>
                  <a:pt x="16063" y="5534"/>
                  <a:pt x="14209" y="3794"/>
                  <a:pt x="11999" y="3794"/>
                </a:cubicBezTo>
                <a:cubicBezTo>
                  <a:pt x="9788" y="3794"/>
                  <a:pt x="8117" y="5534"/>
                  <a:pt x="8117" y="7849"/>
                </a:cubicBezTo>
                <a:lnTo>
                  <a:pt x="9971" y="7849"/>
                </a:lnTo>
                <a:cubicBezTo>
                  <a:pt x="9971" y="6709"/>
                  <a:pt x="10893" y="5821"/>
                  <a:pt x="11999" y="5821"/>
                </a:cubicBezTo>
                <a:cubicBezTo>
                  <a:pt x="13104" y="5821"/>
                  <a:pt x="14035" y="6709"/>
                  <a:pt x="14035" y="7849"/>
                </a:cubicBezTo>
                <a:cubicBezTo>
                  <a:pt x="14035" y="8589"/>
                  <a:pt x="13565" y="9320"/>
                  <a:pt x="13104" y="9320"/>
                </a:cubicBezTo>
                <a:cubicBezTo>
                  <a:pt x="11999" y="9320"/>
                  <a:pt x="10893" y="10800"/>
                  <a:pt x="10893" y="12323"/>
                </a:cubicBezTo>
                <a:lnTo>
                  <a:pt x="1089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haracteristics of </a:t>
            </a:r>
            <a:br>
              <a:rPr sz="7200"/>
            </a:b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onic Compounds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ame for the simplest whole number ratio of atoms in an ionic compou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Formula Uni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">
            <a:hlinkClick r:id="rId1" action="ppaction://hlinksldjump"/>
          </p:cNvPr>
          <p:cNvSpPr/>
          <p:nvPr/>
        </p:nvSpPr>
        <p:spPr>
          <a:xfrm>
            <a:off x="6477120" y="7772400"/>
            <a:ext cx="2057400" cy="1447920"/>
          </a:xfrm>
          <a:custGeom>
            <a:avLst/>
            <a:gdLst>
              <a:gd name="textAreaLeft" fmla="*/ 93600 w 2057400"/>
              <a:gd name="textAreaRight" fmla="*/ 1963800 w 20574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0690" h="21600">
                <a:moveTo>
                  <a:pt x="0" y="0"/>
                </a:moveTo>
                <a:lnTo>
                  <a:pt x="30690" y="0"/>
                </a:lnTo>
                <a:lnTo>
                  <a:pt x="30690" y="21600"/>
                </a:lnTo>
                <a:lnTo>
                  <a:pt x="0" y="21600"/>
                </a:lnTo>
                <a:close/>
              </a:path>
              <a:path fill="lightenLess" w="30690" h="21600">
                <a:moveTo>
                  <a:pt x="0" y="0"/>
                </a:moveTo>
                <a:lnTo>
                  <a:pt x="30690" y="0"/>
                </a:lnTo>
                <a:lnTo>
                  <a:pt x="29290" y="1400"/>
                </a:lnTo>
                <a:lnTo>
                  <a:pt x="1400" y="1400"/>
                </a:lnTo>
                <a:close/>
              </a:path>
              <a:path fill="darken" w="30690" h="21600">
                <a:moveTo>
                  <a:pt x="30690" y="0"/>
                </a:moveTo>
                <a:lnTo>
                  <a:pt x="30690" y="21600"/>
                </a:lnTo>
                <a:lnTo>
                  <a:pt x="29290" y="20200"/>
                </a:lnTo>
                <a:lnTo>
                  <a:pt x="29290" y="1400"/>
                </a:lnTo>
                <a:close/>
              </a:path>
              <a:path fill="darkenLess" w="30690" h="21600">
                <a:moveTo>
                  <a:pt x="30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0" y="20200"/>
                </a:lnTo>
                <a:close/>
              </a:path>
              <a:path fill="lighten" w="30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90" h="21600">
                <a:moveTo>
                  <a:pt x="1534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90" h="21600">
                <a:moveTo>
                  <a:pt x="16450" y="14281"/>
                </a:moveTo>
                <a:lnTo>
                  <a:pt x="16450" y="12323"/>
                </a:lnTo>
                <a:cubicBezTo>
                  <a:pt x="16450" y="11496"/>
                  <a:pt x="16781" y="10800"/>
                  <a:pt x="17382" y="10800"/>
                </a:cubicBezTo>
                <a:cubicBezTo>
                  <a:pt x="18513" y="10800"/>
                  <a:pt x="19410" y="9434"/>
                  <a:pt x="19410" y="7849"/>
                </a:cubicBezTo>
                <a:cubicBezTo>
                  <a:pt x="19410" y="5534"/>
                  <a:pt x="17556" y="3794"/>
                  <a:pt x="15345" y="3794"/>
                </a:cubicBezTo>
                <a:cubicBezTo>
                  <a:pt x="13134" y="3794"/>
                  <a:pt x="11463" y="5534"/>
                  <a:pt x="11463" y="7849"/>
                </a:cubicBezTo>
                <a:lnTo>
                  <a:pt x="13317" y="7849"/>
                </a:lnTo>
                <a:cubicBezTo>
                  <a:pt x="13317" y="6709"/>
                  <a:pt x="14240" y="5821"/>
                  <a:pt x="15345" y="5821"/>
                </a:cubicBezTo>
                <a:cubicBezTo>
                  <a:pt x="16450" y="5821"/>
                  <a:pt x="17382" y="6709"/>
                  <a:pt x="17382" y="7849"/>
                </a:cubicBezTo>
                <a:cubicBezTo>
                  <a:pt x="17382" y="8589"/>
                  <a:pt x="16912" y="9320"/>
                  <a:pt x="16450" y="9320"/>
                </a:cubicBezTo>
                <a:cubicBezTo>
                  <a:pt x="15345" y="9320"/>
                  <a:pt x="14240" y="10800"/>
                  <a:pt x="14240" y="12323"/>
                </a:cubicBezTo>
                <a:lnTo>
                  <a:pt x="1424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haracteristics of </a:t>
            </a:r>
            <a:br>
              <a:rPr sz="7200"/>
            </a:b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onic Compounds for 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Under what two conditions can an ionic compound conduct electricit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If it is melted (molten) or dissolved in water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">
            <a:hlinkClick r:id="rId1" action="ppaction://hlinksldjump"/>
          </p:cNvPr>
          <p:cNvSpPr/>
          <p:nvPr/>
        </p:nvSpPr>
        <p:spPr>
          <a:xfrm>
            <a:off x="9296280" y="7813800"/>
            <a:ext cx="1600200" cy="1371600"/>
          </a:xfrm>
          <a:custGeom>
            <a:avLst/>
            <a:gdLst>
              <a:gd name="textAreaLeft" fmla="*/ 88920 w 1600200"/>
              <a:gd name="textAreaRight" fmla="*/ 1511280 w 16002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5199" h="21600">
                <a:moveTo>
                  <a:pt x="0" y="0"/>
                </a:moveTo>
                <a:lnTo>
                  <a:pt x="25199" y="0"/>
                </a:lnTo>
                <a:lnTo>
                  <a:pt x="25199" y="21600"/>
                </a:lnTo>
                <a:lnTo>
                  <a:pt x="0" y="21600"/>
                </a:lnTo>
                <a:close/>
              </a:path>
              <a:path fill="lightenLess" w="25199" h="21600">
                <a:moveTo>
                  <a:pt x="0" y="0"/>
                </a:moveTo>
                <a:lnTo>
                  <a:pt x="25199" y="0"/>
                </a:lnTo>
                <a:lnTo>
                  <a:pt x="23799" y="1400"/>
                </a:lnTo>
                <a:lnTo>
                  <a:pt x="1400" y="1400"/>
                </a:lnTo>
                <a:close/>
              </a:path>
              <a:path fill="darken" w="25199" h="21600">
                <a:moveTo>
                  <a:pt x="25199" y="0"/>
                </a:moveTo>
                <a:lnTo>
                  <a:pt x="25199" y="21600"/>
                </a:lnTo>
                <a:lnTo>
                  <a:pt x="23799" y="20200"/>
                </a:lnTo>
                <a:lnTo>
                  <a:pt x="23799" y="1400"/>
                </a:lnTo>
                <a:close/>
              </a:path>
              <a:path fill="darkenLess" w="25199" h="21600">
                <a:moveTo>
                  <a:pt x="25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9" y="20200"/>
                </a:lnTo>
                <a:close/>
              </a:path>
              <a:path fill="lighten" w="25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9" h="21600">
                <a:moveTo>
                  <a:pt x="12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99" h="21600">
                <a:moveTo>
                  <a:pt x="13705" y="14281"/>
                </a:moveTo>
                <a:lnTo>
                  <a:pt x="13705" y="12323"/>
                </a:lnTo>
                <a:cubicBezTo>
                  <a:pt x="13705" y="11496"/>
                  <a:pt x="14036" y="10800"/>
                  <a:pt x="14636" y="10800"/>
                </a:cubicBezTo>
                <a:cubicBezTo>
                  <a:pt x="15768" y="10800"/>
                  <a:pt x="16664" y="9434"/>
                  <a:pt x="16664" y="7849"/>
                </a:cubicBezTo>
                <a:cubicBezTo>
                  <a:pt x="16664" y="5534"/>
                  <a:pt x="14810" y="3794"/>
                  <a:pt x="12600" y="3794"/>
                </a:cubicBezTo>
                <a:cubicBezTo>
                  <a:pt x="10389" y="3794"/>
                  <a:pt x="8718" y="5534"/>
                  <a:pt x="8718" y="7849"/>
                </a:cubicBezTo>
                <a:lnTo>
                  <a:pt x="10572" y="7849"/>
                </a:lnTo>
                <a:cubicBezTo>
                  <a:pt x="10572" y="6709"/>
                  <a:pt x="11494" y="5821"/>
                  <a:pt x="12600" y="5821"/>
                </a:cubicBezTo>
                <a:cubicBezTo>
                  <a:pt x="13705" y="5821"/>
                  <a:pt x="14636" y="6709"/>
                  <a:pt x="14636" y="7849"/>
                </a:cubicBezTo>
                <a:cubicBezTo>
                  <a:pt x="14636" y="8589"/>
                  <a:pt x="14166" y="9320"/>
                  <a:pt x="13705" y="9320"/>
                </a:cubicBezTo>
                <a:cubicBezTo>
                  <a:pt x="12600" y="9320"/>
                  <a:pt x="11494" y="10800"/>
                  <a:pt x="11494" y="12323"/>
                </a:cubicBezTo>
                <a:lnTo>
                  <a:pt x="1149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onic Compounds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What is the chemical formula of a compound that contains sodium and sulfu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Na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4">
            <a:hlinkClick r:id="rId1" action="ppaction://hlinksldjump"/>
          </p:cNvPr>
          <p:cNvSpPr/>
          <p:nvPr/>
        </p:nvSpPr>
        <p:spPr>
          <a:xfrm>
            <a:off x="6705720" y="7391520"/>
            <a:ext cx="1447560" cy="144756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onic Compounds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name of the following compound?</a:t>
            </a: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FeF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Iron (III) Fluorid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7543800" y="7543800"/>
            <a:ext cx="1600200" cy="1447920"/>
          </a:xfrm>
          <a:custGeom>
            <a:avLst/>
            <a:gdLst>
              <a:gd name="textAreaLeft" fmla="*/ 93600 w 1600200"/>
              <a:gd name="textAreaRight" fmla="*/ 1506600 w 16002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3871" h="21600">
                <a:moveTo>
                  <a:pt x="0" y="0"/>
                </a:moveTo>
                <a:lnTo>
                  <a:pt x="23871" y="0"/>
                </a:lnTo>
                <a:lnTo>
                  <a:pt x="23871" y="21600"/>
                </a:lnTo>
                <a:lnTo>
                  <a:pt x="0" y="21600"/>
                </a:lnTo>
                <a:close/>
              </a:path>
              <a:path fill="lightenLess" w="23871" h="21600">
                <a:moveTo>
                  <a:pt x="0" y="0"/>
                </a:moveTo>
                <a:lnTo>
                  <a:pt x="23871" y="0"/>
                </a:lnTo>
                <a:lnTo>
                  <a:pt x="22471" y="1400"/>
                </a:lnTo>
                <a:lnTo>
                  <a:pt x="1400" y="1400"/>
                </a:lnTo>
                <a:close/>
              </a:path>
              <a:path fill="darken" w="23871" h="21600">
                <a:moveTo>
                  <a:pt x="23871" y="0"/>
                </a:moveTo>
                <a:lnTo>
                  <a:pt x="23871" y="21600"/>
                </a:lnTo>
                <a:lnTo>
                  <a:pt x="22471" y="20200"/>
                </a:lnTo>
                <a:lnTo>
                  <a:pt x="22471" y="1400"/>
                </a:lnTo>
                <a:close/>
              </a:path>
              <a:path fill="darkenLess" w="23871" h="21600">
                <a:moveTo>
                  <a:pt x="23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1" y="20200"/>
                </a:lnTo>
                <a:close/>
              </a:path>
              <a:path fill="lighten" w="23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71" h="21600">
                <a:moveTo>
                  <a:pt x="119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71" h="21600">
                <a:moveTo>
                  <a:pt x="13041" y="14281"/>
                </a:moveTo>
                <a:lnTo>
                  <a:pt x="13041" y="12323"/>
                </a:lnTo>
                <a:cubicBezTo>
                  <a:pt x="13041" y="11496"/>
                  <a:pt x="13372" y="10800"/>
                  <a:pt x="13972" y="10800"/>
                </a:cubicBezTo>
                <a:cubicBezTo>
                  <a:pt x="15104" y="10800"/>
                  <a:pt x="16000" y="9434"/>
                  <a:pt x="16000" y="7849"/>
                </a:cubicBezTo>
                <a:cubicBezTo>
                  <a:pt x="16000" y="5534"/>
                  <a:pt x="14146" y="3794"/>
                  <a:pt x="11936" y="3794"/>
                </a:cubicBezTo>
                <a:cubicBezTo>
                  <a:pt x="9725" y="3794"/>
                  <a:pt x="8054" y="5534"/>
                  <a:pt x="8054" y="7849"/>
                </a:cubicBezTo>
                <a:lnTo>
                  <a:pt x="9908" y="7849"/>
                </a:lnTo>
                <a:cubicBezTo>
                  <a:pt x="9908" y="6709"/>
                  <a:pt x="10830" y="5821"/>
                  <a:pt x="11936" y="5821"/>
                </a:cubicBezTo>
                <a:cubicBezTo>
                  <a:pt x="13041" y="5821"/>
                  <a:pt x="13972" y="6709"/>
                  <a:pt x="13972" y="7849"/>
                </a:cubicBezTo>
                <a:cubicBezTo>
                  <a:pt x="13972" y="8589"/>
                  <a:pt x="13502" y="9320"/>
                  <a:pt x="13041" y="9320"/>
                </a:cubicBezTo>
                <a:cubicBezTo>
                  <a:pt x="11936" y="9320"/>
                  <a:pt x="10830" y="10800"/>
                  <a:pt x="10830" y="12323"/>
                </a:cubicBezTo>
                <a:lnTo>
                  <a:pt x="1083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onic Compounds 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oxyanion has one more oxygen atom –ate or –it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-at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4">
            <a:hlinkClick r:id="rId1" action="ppaction://hlinksldjump"/>
          </p:cNvPr>
          <p:cNvSpPr/>
          <p:nvPr/>
        </p:nvSpPr>
        <p:spPr>
          <a:xfrm>
            <a:off x="7238880" y="7696080"/>
            <a:ext cx="1524240" cy="1295640"/>
          </a:xfrm>
          <a:custGeom>
            <a:avLst/>
            <a:gdLst>
              <a:gd name="textAreaLeft" fmla="*/ 83880 w 1524240"/>
              <a:gd name="textAreaRight" fmla="*/ 1440360 w 15242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127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410" h="21600">
                <a:moveTo>
                  <a:pt x="13810" y="14281"/>
                </a:moveTo>
                <a:lnTo>
                  <a:pt x="13810" y="12323"/>
                </a:lnTo>
                <a:cubicBezTo>
                  <a:pt x="13810" y="11496"/>
                  <a:pt x="14141" y="10800"/>
                  <a:pt x="14742" y="10800"/>
                </a:cubicBezTo>
                <a:cubicBezTo>
                  <a:pt x="15873" y="10800"/>
                  <a:pt x="16770" y="9434"/>
                  <a:pt x="16770" y="7849"/>
                </a:cubicBezTo>
                <a:cubicBezTo>
                  <a:pt x="16770" y="5534"/>
                  <a:pt x="14916" y="3794"/>
                  <a:pt x="12705" y="3794"/>
                </a:cubicBezTo>
                <a:cubicBezTo>
                  <a:pt x="10494" y="3794"/>
                  <a:pt x="8823" y="5534"/>
                  <a:pt x="8823" y="7849"/>
                </a:cubicBezTo>
                <a:lnTo>
                  <a:pt x="10677" y="7849"/>
                </a:lnTo>
                <a:cubicBezTo>
                  <a:pt x="10677" y="6709"/>
                  <a:pt x="11600" y="5821"/>
                  <a:pt x="12705" y="5821"/>
                </a:cubicBezTo>
                <a:cubicBezTo>
                  <a:pt x="13810" y="5821"/>
                  <a:pt x="14742" y="6709"/>
                  <a:pt x="14742" y="7849"/>
                </a:cubicBezTo>
                <a:cubicBezTo>
                  <a:pt x="14742" y="8589"/>
                  <a:pt x="14272" y="9320"/>
                  <a:pt x="13810" y="9320"/>
                </a:cubicBezTo>
                <a:cubicBezTo>
                  <a:pt x="12705" y="9320"/>
                  <a:pt x="11600" y="10800"/>
                  <a:pt x="11600" y="12323"/>
                </a:cubicBezTo>
                <a:lnTo>
                  <a:pt x="1160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1321416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132145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0" algn="ctr">
              <a:lnSpc>
                <a:spcPct val="130000"/>
              </a:lnSpc>
              <a:spcBef>
                <a:spcPts val="32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Times New Roman"/>
              </a:rPr>
              <a:t>ANY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ctr">
              <a:lnSpc>
                <a:spcPct val="130000"/>
              </a:lnSpc>
              <a:spcBef>
                <a:spcPts val="32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40920" y="914040"/>
            <a:ext cx="1321452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onic Compounds I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many potassium ions must donate their single valence electron when forming an ionic bond with phosphoru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">
            <a:hlinkClick r:id="rId1" action="ppaction://hlinksldjump"/>
          </p:cNvPr>
          <p:cNvSpPr/>
          <p:nvPr/>
        </p:nvSpPr>
        <p:spPr>
          <a:xfrm>
            <a:off x="7162920" y="76960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19" h="21600">
                <a:moveTo>
                  <a:pt x="14065" y="14281"/>
                </a:moveTo>
                <a:lnTo>
                  <a:pt x="14065" y="12323"/>
                </a:lnTo>
                <a:cubicBezTo>
                  <a:pt x="14065" y="11496"/>
                  <a:pt x="14395" y="10800"/>
                  <a:pt x="14996" y="10800"/>
                </a:cubicBezTo>
                <a:cubicBezTo>
                  <a:pt x="16127" y="10800"/>
                  <a:pt x="17024" y="9434"/>
                  <a:pt x="17024" y="7849"/>
                </a:cubicBezTo>
                <a:cubicBezTo>
                  <a:pt x="17024" y="5534"/>
                  <a:pt x="15170" y="3794"/>
                  <a:pt x="12959" y="3794"/>
                </a:cubicBezTo>
                <a:cubicBezTo>
                  <a:pt x="10749" y="3794"/>
                  <a:pt x="9077" y="5534"/>
                  <a:pt x="9077" y="7849"/>
                </a:cubicBezTo>
                <a:lnTo>
                  <a:pt x="10931" y="7849"/>
                </a:lnTo>
                <a:cubicBezTo>
                  <a:pt x="10931" y="6709"/>
                  <a:pt x="11854" y="5821"/>
                  <a:pt x="12959" y="5821"/>
                </a:cubicBezTo>
                <a:cubicBezTo>
                  <a:pt x="14065" y="5821"/>
                  <a:pt x="14996" y="6709"/>
                  <a:pt x="14996" y="7849"/>
                </a:cubicBezTo>
                <a:cubicBezTo>
                  <a:pt x="14996" y="8589"/>
                  <a:pt x="14526" y="9320"/>
                  <a:pt x="14065" y="9320"/>
                </a:cubicBezTo>
                <a:cubicBezTo>
                  <a:pt x="12959" y="9320"/>
                  <a:pt x="11854" y="10800"/>
                  <a:pt x="11854" y="12323"/>
                </a:cubicBezTo>
                <a:lnTo>
                  <a:pt x="1185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onic Compounds 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chemical formula for chromium (III) dichromate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r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(Cr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>
            <a:hlinkClick r:id="rId1" action="ppaction://hlinksldjump"/>
          </p:cNvPr>
          <p:cNvSpPr/>
          <p:nvPr/>
        </p:nvSpPr>
        <p:spPr>
          <a:xfrm>
            <a:off x="7238880" y="7848720"/>
            <a:ext cx="1295640" cy="1143000"/>
          </a:xfrm>
          <a:custGeom>
            <a:avLst/>
            <a:gdLst>
              <a:gd name="textAreaLeft" fmla="*/ 73800 w 1295640"/>
              <a:gd name="textAreaRight" fmla="*/ 1221840 w 12956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4" h="21600">
                <a:moveTo>
                  <a:pt x="122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84" h="21600">
                <a:moveTo>
                  <a:pt x="13347" y="14281"/>
                </a:moveTo>
                <a:lnTo>
                  <a:pt x="13347" y="12323"/>
                </a:lnTo>
                <a:cubicBezTo>
                  <a:pt x="13347" y="11496"/>
                  <a:pt x="13678" y="10800"/>
                  <a:pt x="14278" y="10800"/>
                </a:cubicBezTo>
                <a:cubicBezTo>
                  <a:pt x="15410" y="10800"/>
                  <a:pt x="16306" y="9434"/>
                  <a:pt x="16306" y="7849"/>
                </a:cubicBezTo>
                <a:cubicBezTo>
                  <a:pt x="16306" y="5534"/>
                  <a:pt x="14453" y="3794"/>
                  <a:pt x="12242" y="3794"/>
                </a:cubicBezTo>
                <a:cubicBezTo>
                  <a:pt x="10031" y="3794"/>
                  <a:pt x="8360" y="5534"/>
                  <a:pt x="8360" y="7849"/>
                </a:cubicBezTo>
                <a:lnTo>
                  <a:pt x="10214" y="7849"/>
                </a:lnTo>
                <a:cubicBezTo>
                  <a:pt x="10214" y="6709"/>
                  <a:pt x="11136" y="5821"/>
                  <a:pt x="12242" y="5821"/>
                </a:cubicBezTo>
                <a:cubicBezTo>
                  <a:pt x="13347" y="5821"/>
                  <a:pt x="14278" y="6709"/>
                  <a:pt x="14278" y="7849"/>
                </a:cubicBezTo>
                <a:cubicBezTo>
                  <a:pt x="14278" y="8589"/>
                  <a:pt x="13808" y="9320"/>
                  <a:pt x="13347" y="9320"/>
                </a:cubicBezTo>
                <a:cubicBezTo>
                  <a:pt x="12242" y="9320"/>
                  <a:pt x="11136" y="10800"/>
                  <a:pt x="11136" y="12323"/>
                </a:cubicBezTo>
                <a:lnTo>
                  <a:pt x="1113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iscellaneous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acid is HC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 binary ac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4">
            <a:hlinkClick r:id="rId1" action="ppaction://hlinksldjump"/>
          </p:cNvPr>
          <p:cNvSpPr/>
          <p:nvPr/>
        </p:nvSpPr>
        <p:spPr>
          <a:xfrm>
            <a:off x="6934320" y="77724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1367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354" h="21600">
                <a:moveTo>
                  <a:pt x="14782" y="14281"/>
                </a:moveTo>
                <a:lnTo>
                  <a:pt x="14782" y="12323"/>
                </a:lnTo>
                <a:cubicBezTo>
                  <a:pt x="14782" y="11496"/>
                  <a:pt x="15113" y="10800"/>
                  <a:pt x="15713" y="10800"/>
                </a:cubicBezTo>
                <a:cubicBezTo>
                  <a:pt x="16845" y="10800"/>
                  <a:pt x="17741" y="9434"/>
                  <a:pt x="17741" y="7849"/>
                </a:cubicBezTo>
                <a:cubicBezTo>
                  <a:pt x="17741" y="5534"/>
                  <a:pt x="15888" y="3794"/>
                  <a:pt x="13677" y="3794"/>
                </a:cubicBezTo>
                <a:cubicBezTo>
                  <a:pt x="11466" y="3794"/>
                  <a:pt x="9795" y="5534"/>
                  <a:pt x="9795" y="7849"/>
                </a:cubicBezTo>
                <a:lnTo>
                  <a:pt x="11649" y="7849"/>
                </a:lnTo>
                <a:cubicBezTo>
                  <a:pt x="11649" y="6709"/>
                  <a:pt x="12571" y="5821"/>
                  <a:pt x="13677" y="5821"/>
                </a:cubicBezTo>
                <a:cubicBezTo>
                  <a:pt x="14782" y="5821"/>
                  <a:pt x="15713" y="6709"/>
                  <a:pt x="15713" y="7849"/>
                </a:cubicBezTo>
                <a:cubicBezTo>
                  <a:pt x="15713" y="8589"/>
                  <a:pt x="15243" y="9320"/>
                  <a:pt x="14782" y="9320"/>
                </a:cubicBezTo>
                <a:cubicBezTo>
                  <a:pt x="13677" y="9320"/>
                  <a:pt x="12571" y="10800"/>
                  <a:pt x="12571" y="12323"/>
                </a:cubicBezTo>
                <a:lnTo>
                  <a:pt x="1257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iscellaneous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The names of binary acids begin with what prefix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Hydro-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4">
            <a:hlinkClick r:id="rId1" action="ppaction://hlinksldjump"/>
          </p:cNvPr>
          <p:cNvSpPr/>
          <p:nvPr/>
        </p:nvSpPr>
        <p:spPr>
          <a:xfrm>
            <a:off x="7086600" y="7620120"/>
            <a:ext cx="1295280" cy="12952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iscellaneous for 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The names of acids that contain polyatomic anions ending in –ate end in what suffix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-i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>
            <a:hlinkClick r:id="rId1" action="ppaction://hlinksldjump"/>
          </p:cNvPr>
          <p:cNvSpPr/>
          <p:nvPr/>
        </p:nvSpPr>
        <p:spPr>
          <a:xfrm>
            <a:off x="6705720" y="73152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82" h="21600">
                <a:moveTo>
                  <a:pt x="113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682" h="21600">
                <a:moveTo>
                  <a:pt x="12446" y="14281"/>
                </a:moveTo>
                <a:lnTo>
                  <a:pt x="12446" y="12323"/>
                </a:lnTo>
                <a:cubicBezTo>
                  <a:pt x="12446" y="11496"/>
                  <a:pt x="12777" y="10800"/>
                  <a:pt x="13377" y="10800"/>
                </a:cubicBezTo>
                <a:cubicBezTo>
                  <a:pt x="14509" y="10800"/>
                  <a:pt x="15405" y="9434"/>
                  <a:pt x="15405" y="7849"/>
                </a:cubicBezTo>
                <a:cubicBezTo>
                  <a:pt x="15405" y="5534"/>
                  <a:pt x="13552" y="3794"/>
                  <a:pt x="11341" y="3794"/>
                </a:cubicBezTo>
                <a:cubicBezTo>
                  <a:pt x="9130" y="3794"/>
                  <a:pt x="7459" y="5534"/>
                  <a:pt x="7459" y="7849"/>
                </a:cubicBezTo>
                <a:lnTo>
                  <a:pt x="9313" y="7849"/>
                </a:lnTo>
                <a:cubicBezTo>
                  <a:pt x="9313" y="6709"/>
                  <a:pt x="10235" y="5821"/>
                  <a:pt x="11341" y="5821"/>
                </a:cubicBezTo>
                <a:cubicBezTo>
                  <a:pt x="12446" y="5821"/>
                  <a:pt x="13377" y="6709"/>
                  <a:pt x="13377" y="7849"/>
                </a:cubicBezTo>
                <a:cubicBezTo>
                  <a:pt x="13377" y="8589"/>
                  <a:pt x="12907" y="9320"/>
                  <a:pt x="12446" y="9320"/>
                </a:cubicBezTo>
                <a:cubicBezTo>
                  <a:pt x="11341" y="9320"/>
                  <a:pt x="10235" y="10800"/>
                  <a:pt x="10235" y="12323"/>
                </a:cubicBezTo>
                <a:lnTo>
                  <a:pt x="1023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iscellaneous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force holds oppositely charged ions together in an ionic bo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lectrostati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4">
            <a:hlinkClick r:id="rId1" action="ppaction://hlinksldjump"/>
          </p:cNvPr>
          <p:cNvSpPr/>
          <p:nvPr/>
        </p:nvSpPr>
        <p:spPr>
          <a:xfrm>
            <a:off x="7238880" y="7696080"/>
            <a:ext cx="1524240" cy="1447920"/>
          </a:xfrm>
          <a:custGeom>
            <a:avLst/>
            <a:gdLst>
              <a:gd name="textAreaLeft" fmla="*/ 93600 w 1524240"/>
              <a:gd name="textAreaRight" fmla="*/ 1430640 w 15242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2738" h="21600">
                <a:moveTo>
                  <a:pt x="0" y="0"/>
                </a:moveTo>
                <a:lnTo>
                  <a:pt x="22738" y="0"/>
                </a:lnTo>
                <a:lnTo>
                  <a:pt x="22738" y="21600"/>
                </a:lnTo>
                <a:lnTo>
                  <a:pt x="0" y="21600"/>
                </a:lnTo>
                <a:close/>
              </a:path>
              <a:path fill="lightenLess" w="22738" h="21600">
                <a:moveTo>
                  <a:pt x="0" y="0"/>
                </a:moveTo>
                <a:lnTo>
                  <a:pt x="22738" y="0"/>
                </a:lnTo>
                <a:lnTo>
                  <a:pt x="21338" y="1400"/>
                </a:lnTo>
                <a:lnTo>
                  <a:pt x="1400" y="1400"/>
                </a:lnTo>
                <a:close/>
              </a:path>
              <a:path fill="darken" w="22738" h="21600">
                <a:moveTo>
                  <a:pt x="22738" y="0"/>
                </a:moveTo>
                <a:lnTo>
                  <a:pt x="22738" y="21600"/>
                </a:lnTo>
                <a:lnTo>
                  <a:pt x="21338" y="20200"/>
                </a:lnTo>
                <a:lnTo>
                  <a:pt x="21338" y="1400"/>
                </a:lnTo>
                <a:close/>
              </a:path>
              <a:path fill="darkenLess" w="22738" h="21600">
                <a:moveTo>
                  <a:pt x="22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8" y="20200"/>
                </a:lnTo>
                <a:close/>
              </a:path>
              <a:path fill="lighten" w="22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8" h="21600">
                <a:moveTo>
                  <a:pt x="1136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738" h="21600">
                <a:moveTo>
                  <a:pt x="12474" y="14281"/>
                </a:moveTo>
                <a:lnTo>
                  <a:pt x="12474" y="12323"/>
                </a:lnTo>
                <a:cubicBezTo>
                  <a:pt x="12474" y="11496"/>
                  <a:pt x="12805" y="10800"/>
                  <a:pt x="13406" y="10800"/>
                </a:cubicBezTo>
                <a:cubicBezTo>
                  <a:pt x="14537" y="10800"/>
                  <a:pt x="15434" y="9434"/>
                  <a:pt x="15434" y="7849"/>
                </a:cubicBezTo>
                <a:cubicBezTo>
                  <a:pt x="15434" y="5534"/>
                  <a:pt x="13580" y="3794"/>
                  <a:pt x="11369" y="3794"/>
                </a:cubicBezTo>
                <a:cubicBezTo>
                  <a:pt x="9158" y="3794"/>
                  <a:pt x="7487" y="5534"/>
                  <a:pt x="7487" y="7849"/>
                </a:cubicBezTo>
                <a:lnTo>
                  <a:pt x="9341" y="7849"/>
                </a:lnTo>
                <a:cubicBezTo>
                  <a:pt x="9341" y="6709"/>
                  <a:pt x="10264" y="5821"/>
                  <a:pt x="11369" y="5821"/>
                </a:cubicBezTo>
                <a:cubicBezTo>
                  <a:pt x="12474" y="5821"/>
                  <a:pt x="13406" y="6709"/>
                  <a:pt x="13406" y="7849"/>
                </a:cubicBezTo>
                <a:cubicBezTo>
                  <a:pt x="13406" y="8589"/>
                  <a:pt x="12936" y="9320"/>
                  <a:pt x="12474" y="9320"/>
                </a:cubicBezTo>
                <a:cubicBezTo>
                  <a:pt x="11369" y="9320"/>
                  <a:pt x="10264" y="10800"/>
                  <a:pt x="10264" y="12323"/>
                </a:cubicBezTo>
                <a:lnTo>
                  <a:pt x="1026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iscellaneous for 5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3 polyatomic anions are not oxyani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mmonium, cyanide and hydroxid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">
            <a:hlinkClick r:id="rId1" action="ppaction://hlinksldjump"/>
          </p:cNvPr>
          <p:cNvSpPr/>
          <p:nvPr/>
        </p:nvSpPr>
        <p:spPr>
          <a:xfrm>
            <a:off x="6781680" y="78487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>
            <a:off x="457200" y="82296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457200" y="670572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457200" y="35812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81532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457200" y="52578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457200" y="19810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304812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54864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106678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7"/>
          <p:cNvSpPr/>
          <p:nvPr/>
        </p:nvSpPr>
        <p:spPr>
          <a:xfrm>
            <a:off x="130302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762120" y="24382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9"/>
          <p:cNvSpPr/>
          <p:nvPr/>
        </p:nvSpPr>
        <p:spPr>
          <a:xfrm>
            <a:off x="83818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58672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1"/>
          <p:cNvSpPr/>
          <p:nvPr/>
        </p:nvSpPr>
        <p:spPr>
          <a:xfrm>
            <a:off x="33526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2"/>
          <p:cNvSpPr/>
          <p:nvPr/>
        </p:nvSpPr>
        <p:spPr>
          <a:xfrm>
            <a:off x="108964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3"/>
          <p:cNvSpPr/>
          <p:nvPr/>
        </p:nvSpPr>
        <p:spPr>
          <a:xfrm>
            <a:off x="13258800" y="22860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4"/>
          <p:cNvSpPr/>
          <p:nvPr/>
        </p:nvSpPr>
        <p:spPr>
          <a:xfrm>
            <a:off x="685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5"/>
          <p:cNvSpPr/>
          <p:nvPr/>
        </p:nvSpPr>
        <p:spPr>
          <a:xfrm>
            <a:off x="13258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6"/>
          <p:cNvSpPr/>
          <p:nvPr/>
        </p:nvSpPr>
        <p:spPr>
          <a:xfrm>
            <a:off x="108964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27"/>
          <p:cNvSpPr/>
          <p:nvPr/>
        </p:nvSpPr>
        <p:spPr>
          <a:xfrm>
            <a:off x="853452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28"/>
          <p:cNvSpPr/>
          <p:nvPr/>
        </p:nvSpPr>
        <p:spPr>
          <a:xfrm>
            <a:off x="58672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9"/>
          <p:cNvSpPr/>
          <p:nvPr/>
        </p:nvSpPr>
        <p:spPr>
          <a:xfrm>
            <a:off x="3352680" y="4114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0"/>
          <p:cNvSpPr/>
          <p:nvPr/>
        </p:nvSpPr>
        <p:spPr>
          <a:xfrm>
            <a:off x="76212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6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1"/>
          <p:cNvSpPr/>
          <p:nvPr/>
        </p:nvSpPr>
        <p:spPr>
          <a:xfrm>
            <a:off x="33526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6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2"/>
          <p:cNvSpPr/>
          <p:nvPr/>
        </p:nvSpPr>
        <p:spPr>
          <a:xfrm>
            <a:off x="58672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6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3"/>
          <p:cNvSpPr/>
          <p:nvPr/>
        </p:nvSpPr>
        <p:spPr>
          <a:xfrm>
            <a:off x="84582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6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4"/>
          <p:cNvSpPr/>
          <p:nvPr/>
        </p:nvSpPr>
        <p:spPr>
          <a:xfrm>
            <a:off x="10972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6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5"/>
          <p:cNvSpPr/>
          <p:nvPr/>
        </p:nvSpPr>
        <p:spPr>
          <a:xfrm>
            <a:off x="13258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6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6"/>
          <p:cNvSpPr/>
          <p:nvPr/>
        </p:nvSpPr>
        <p:spPr>
          <a:xfrm>
            <a:off x="59436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8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7"/>
          <p:cNvSpPr/>
          <p:nvPr/>
        </p:nvSpPr>
        <p:spPr>
          <a:xfrm>
            <a:off x="8380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8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8"/>
          <p:cNvSpPr/>
          <p:nvPr/>
        </p:nvSpPr>
        <p:spPr>
          <a:xfrm>
            <a:off x="33526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8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9"/>
          <p:cNvSpPr/>
          <p:nvPr/>
        </p:nvSpPr>
        <p:spPr>
          <a:xfrm>
            <a:off x="853452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8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0"/>
          <p:cNvSpPr/>
          <p:nvPr/>
        </p:nvSpPr>
        <p:spPr>
          <a:xfrm>
            <a:off x="10820520" y="70102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8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41"/>
          <p:cNvSpPr/>
          <p:nvPr/>
        </p:nvSpPr>
        <p:spPr>
          <a:xfrm>
            <a:off x="132588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8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2"/>
          <p:cNvSpPr/>
          <p:nvPr/>
        </p:nvSpPr>
        <p:spPr>
          <a:xfrm>
            <a:off x="76212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10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3"/>
          <p:cNvSpPr/>
          <p:nvPr/>
        </p:nvSpPr>
        <p:spPr>
          <a:xfrm>
            <a:off x="108964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10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4"/>
          <p:cNvSpPr/>
          <p:nvPr/>
        </p:nvSpPr>
        <p:spPr>
          <a:xfrm>
            <a:off x="342900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10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5"/>
          <p:cNvSpPr/>
          <p:nvPr/>
        </p:nvSpPr>
        <p:spPr>
          <a:xfrm>
            <a:off x="58672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10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6"/>
          <p:cNvSpPr/>
          <p:nvPr/>
        </p:nvSpPr>
        <p:spPr>
          <a:xfrm>
            <a:off x="84582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10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47"/>
          <p:cNvSpPr/>
          <p:nvPr/>
        </p:nvSpPr>
        <p:spPr>
          <a:xfrm>
            <a:off x="132588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10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0"/>
          <p:cNvSpPr/>
          <p:nvPr/>
        </p:nvSpPr>
        <p:spPr>
          <a:xfrm>
            <a:off x="7313400" y="9661680"/>
            <a:ext cx="183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Final Jeopard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1"/>
          <p:cNvSpPr/>
          <p:nvPr/>
        </p:nvSpPr>
        <p:spPr>
          <a:xfrm>
            <a:off x="533520" y="45720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omic Scientis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52"/>
          <p:cNvSpPr/>
          <p:nvPr/>
        </p:nvSpPr>
        <p:spPr>
          <a:xfrm>
            <a:off x="3276720" y="4572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5562720" y="457200"/>
            <a:ext cx="22860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omic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4"/>
          <p:cNvSpPr/>
          <p:nvPr/>
        </p:nvSpPr>
        <p:spPr>
          <a:xfrm>
            <a:off x="8229600" y="533520"/>
            <a:ext cx="24382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sotop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5"/>
          <p:cNvSpPr/>
          <p:nvPr/>
        </p:nvSpPr>
        <p:spPr>
          <a:xfrm>
            <a:off x="10820520" y="457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iodic   Tab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56"/>
          <p:cNvSpPr/>
          <p:nvPr/>
        </p:nvSpPr>
        <p:spPr>
          <a:xfrm>
            <a:off x="12877920" y="533520"/>
            <a:ext cx="266688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9500" spc="-1" strike="noStrike">
                <a:solidFill>
                  <a:srgbClr val="ffffff"/>
                </a:solidFill>
                <a:latin typeface="Times New Roman"/>
              </a:rPr>
              <a:t>The mouse has led you astray, please pick again!!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4">
            <a:hlinkClick r:id="rId1" action="ppaction://hlinksldjump"/>
          </p:cNvPr>
          <p:cNvSpPr/>
          <p:nvPr/>
        </p:nvSpPr>
        <p:spPr>
          <a:xfrm>
            <a:off x="6858000" y="708660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oh(1)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tomic Scientists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65320" y="2904840"/>
            <a:ext cx="13214160" cy="4638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was responsible for determining the mass to charge ratio of an elect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Robert Millika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4">
            <a:hlinkClick r:id="rId1" action="ppaction://hlinksldjump"/>
          </p:cNvPr>
          <p:cNvSpPr/>
          <p:nvPr/>
        </p:nvSpPr>
        <p:spPr>
          <a:xfrm>
            <a:off x="6934320" y="80773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79"/>
          <p:cNvSpPr/>
          <p:nvPr/>
        </p:nvSpPr>
        <p:spPr>
          <a:xfrm>
            <a:off x="457200" y="82296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78"/>
          <p:cNvSpPr/>
          <p:nvPr/>
        </p:nvSpPr>
        <p:spPr>
          <a:xfrm>
            <a:off x="457200" y="670572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82"/>
          <p:cNvSpPr/>
          <p:nvPr/>
        </p:nvSpPr>
        <p:spPr>
          <a:xfrm>
            <a:off x="457200" y="35812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86"/>
          <p:cNvSpPr/>
          <p:nvPr/>
        </p:nvSpPr>
        <p:spPr>
          <a:xfrm>
            <a:off x="81532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98520" y="693720"/>
            <a:ext cx="2666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ond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562720" y="738360"/>
            <a:ext cx="2286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ta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8229600" y="533520"/>
            <a:ext cx="243828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haracteristics of Ionic compoun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2839760" y="744480"/>
            <a:ext cx="2666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iscellaneou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7"/>
          <p:cNvSpPr/>
          <p:nvPr/>
        </p:nvSpPr>
        <p:spPr>
          <a:xfrm>
            <a:off x="457200" y="5257800"/>
            <a:ext cx="150876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8"/>
          <p:cNvSpPr/>
          <p:nvPr/>
        </p:nvSpPr>
        <p:spPr>
          <a:xfrm>
            <a:off x="0" y="0"/>
            <a:ext cx="15544800" cy="10058400"/>
          </a:xfrm>
          <a:prstGeom prst="rect">
            <a:avLst/>
          </a:prstGeom>
          <a:noFill/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81"/>
          <p:cNvSpPr/>
          <p:nvPr/>
        </p:nvSpPr>
        <p:spPr>
          <a:xfrm>
            <a:off x="457200" y="1981080"/>
            <a:ext cx="14630400" cy="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3"/>
          <p:cNvSpPr/>
          <p:nvPr/>
        </p:nvSpPr>
        <p:spPr>
          <a:xfrm>
            <a:off x="304812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4"/>
          <p:cNvSpPr/>
          <p:nvPr/>
        </p:nvSpPr>
        <p:spPr>
          <a:xfrm>
            <a:off x="54864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7"/>
          <p:cNvSpPr/>
          <p:nvPr/>
        </p:nvSpPr>
        <p:spPr>
          <a:xfrm>
            <a:off x="1066788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88"/>
          <p:cNvSpPr/>
          <p:nvPr/>
        </p:nvSpPr>
        <p:spPr>
          <a:xfrm>
            <a:off x="13030200" y="0"/>
            <a:ext cx="0" cy="10058400"/>
          </a:xfrm>
          <a:prstGeom prst="line">
            <a:avLst/>
          </a:prstGeom>
          <a:ln cap="sq"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9"/>
          <p:cNvSpPr/>
          <p:nvPr/>
        </p:nvSpPr>
        <p:spPr>
          <a:xfrm>
            <a:off x="762120" y="24382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0"/>
          <p:cNvSpPr/>
          <p:nvPr/>
        </p:nvSpPr>
        <p:spPr>
          <a:xfrm>
            <a:off x="83818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1"/>
          <p:cNvSpPr/>
          <p:nvPr/>
        </p:nvSpPr>
        <p:spPr>
          <a:xfrm>
            <a:off x="58672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2"/>
          <p:cNvSpPr/>
          <p:nvPr/>
        </p:nvSpPr>
        <p:spPr>
          <a:xfrm>
            <a:off x="33526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3"/>
          <p:cNvSpPr/>
          <p:nvPr/>
        </p:nvSpPr>
        <p:spPr>
          <a:xfrm>
            <a:off x="10896480" y="2362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4"/>
          <p:cNvSpPr/>
          <p:nvPr/>
        </p:nvSpPr>
        <p:spPr>
          <a:xfrm>
            <a:off x="13258800" y="22860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5"/>
          <p:cNvSpPr/>
          <p:nvPr/>
        </p:nvSpPr>
        <p:spPr>
          <a:xfrm>
            <a:off x="685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6"/>
          <p:cNvSpPr/>
          <p:nvPr/>
        </p:nvSpPr>
        <p:spPr>
          <a:xfrm>
            <a:off x="1325880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7"/>
          <p:cNvSpPr/>
          <p:nvPr/>
        </p:nvSpPr>
        <p:spPr>
          <a:xfrm>
            <a:off x="108964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8"/>
          <p:cNvSpPr/>
          <p:nvPr/>
        </p:nvSpPr>
        <p:spPr>
          <a:xfrm>
            <a:off x="853452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9"/>
          <p:cNvSpPr/>
          <p:nvPr/>
        </p:nvSpPr>
        <p:spPr>
          <a:xfrm>
            <a:off x="5867280" y="4038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0"/>
          <p:cNvSpPr/>
          <p:nvPr/>
        </p:nvSpPr>
        <p:spPr>
          <a:xfrm>
            <a:off x="3352680" y="4114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01"/>
          <p:cNvSpPr/>
          <p:nvPr/>
        </p:nvSpPr>
        <p:spPr>
          <a:xfrm>
            <a:off x="76212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2"/>
          <p:cNvSpPr/>
          <p:nvPr/>
        </p:nvSpPr>
        <p:spPr>
          <a:xfrm>
            <a:off x="33526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3">
            <a:hlinkClick r:id="rId15" action="ppaction://hlinksldjump"/>
          </p:cNvPr>
          <p:cNvSpPr/>
          <p:nvPr/>
        </p:nvSpPr>
        <p:spPr>
          <a:xfrm>
            <a:off x="586728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4"/>
          <p:cNvSpPr/>
          <p:nvPr/>
        </p:nvSpPr>
        <p:spPr>
          <a:xfrm>
            <a:off x="84582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5"/>
          <p:cNvSpPr/>
          <p:nvPr/>
        </p:nvSpPr>
        <p:spPr>
          <a:xfrm>
            <a:off x="10972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06"/>
          <p:cNvSpPr/>
          <p:nvPr/>
        </p:nvSpPr>
        <p:spPr>
          <a:xfrm>
            <a:off x="13258800" y="55627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8"/>
          <p:cNvSpPr/>
          <p:nvPr/>
        </p:nvSpPr>
        <p:spPr>
          <a:xfrm>
            <a:off x="8380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335268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853452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10820520" y="70102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13258800" y="70866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13"/>
          <p:cNvSpPr/>
          <p:nvPr/>
        </p:nvSpPr>
        <p:spPr>
          <a:xfrm>
            <a:off x="76212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14"/>
          <p:cNvSpPr/>
          <p:nvPr/>
        </p:nvSpPr>
        <p:spPr>
          <a:xfrm>
            <a:off x="108964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15"/>
          <p:cNvSpPr/>
          <p:nvPr/>
        </p:nvSpPr>
        <p:spPr>
          <a:xfrm>
            <a:off x="3429000" y="8686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16">
            <a:hlinkClick r:id="rId28" action="ppaction://hlinksldjump"/>
          </p:cNvPr>
          <p:cNvSpPr/>
          <p:nvPr/>
        </p:nvSpPr>
        <p:spPr>
          <a:xfrm>
            <a:off x="586728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17"/>
          <p:cNvSpPr/>
          <p:nvPr/>
        </p:nvSpPr>
        <p:spPr>
          <a:xfrm>
            <a:off x="84582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8"/>
          <p:cNvSpPr/>
          <p:nvPr/>
        </p:nvSpPr>
        <p:spPr>
          <a:xfrm>
            <a:off x="13258800" y="8610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0"/>
          <p:cNvSpPr/>
          <p:nvPr/>
        </p:nvSpPr>
        <p:spPr>
          <a:xfrm>
            <a:off x="10972800" y="8334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mpoun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1"/>
          <p:cNvSpPr/>
          <p:nvPr/>
        </p:nvSpPr>
        <p:spPr>
          <a:xfrm>
            <a:off x="6687720" y="976788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Double Jeopard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22"/>
          <p:cNvSpPr/>
          <p:nvPr/>
        </p:nvSpPr>
        <p:spPr>
          <a:xfrm>
            <a:off x="3652920" y="7142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4"/>
          <p:cNvSpPr/>
          <p:nvPr/>
        </p:nvSpPr>
        <p:spPr>
          <a:xfrm>
            <a:off x="5791320" y="716292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oardfi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tomic Scientists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According to John Dalton, Which atoms are identica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toms of the same elem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4">
            <a:hlinkClick r:id="rId1" action="ppaction://hlinksldjump"/>
          </p:cNvPr>
          <p:cNvSpPr/>
          <p:nvPr/>
        </p:nvSpPr>
        <p:spPr>
          <a:xfrm>
            <a:off x="6477120" y="8077320"/>
            <a:ext cx="2819160" cy="1981080"/>
          </a:xfrm>
          <a:custGeom>
            <a:avLst/>
            <a:gdLst>
              <a:gd name="textAreaLeft" fmla="*/ 128160 w 2819160"/>
              <a:gd name="textAreaRight" fmla="*/ 2691000 w 281916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0736" h="21600">
                <a:moveTo>
                  <a:pt x="0" y="0"/>
                </a:moveTo>
                <a:lnTo>
                  <a:pt x="30736" y="0"/>
                </a:lnTo>
                <a:lnTo>
                  <a:pt x="30736" y="21600"/>
                </a:lnTo>
                <a:lnTo>
                  <a:pt x="0" y="21600"/>
                </a:lnTo>
                <a:close/>
              </a:path>
              <a:path fill="lightenLess" w="30736" h="21600">
                <a:moveTo>
                  <a:pt x="0" y="0"/>
                </a:moveTo>
                <a:lnTo>
                  <a:pt x="30736" y="0"/>
                </a:lnTo>
                <a:lnTo>
                  <a:pt x="29336" y="1400"/>
                </a:lnTo>
                <a:lnTo>
                  <a:pt x="1400" y="1400"/>
                </a:lnTo>
                <a:close/>
              </a:path>
              <a:path fill="darken" w="30736" h="21600">
                <a:moveTo>
                  <a:pt x="30736" y="0"/>
                </a:moveTo>
                <a:lnTo>
                  <a:pt x="30736" y="21600"/>
                </a:lnTo>
                <a:lnTo>
                  <a:pt x="29336" y="20200"/>
                </a:lnTo>
                <a:lnTo>
                  <a:pt x="29336" y="1400"/>
                </a:lnTo>
                <a:close/>
              </a:path>
              <a:path fill="darkenLess" w="30736" h="21600">
                <a:moveTo>
                  <a:pt x="30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6" y="20200"/>
                </a:lnTo>
                <a:close/>
              </a:path>
              <a:path fill="lighten" w="30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6" h="21600">
                <a:moveTo>
                  <a:pt x="153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736" h="21600">
                <a:moveTo>
                  <a:pt x="16473" y="14281"/>
                </a:moveTo>
                <a:lnTo>
                  <a:pt x="16473" y="12323"/>
                </a:lnTo>
                <a:cubicBezTo>
                  <a:pt x="16473" y="11496"/>
                  <a:pt x="16804" y="10800"/>
                  <a:pt x="17405" y="10800"/>
                </a:cubicBezTo>
                <a:cubicBezTo>
                  <a:pt x="18536" y="10800"/>
                  <a:pt x="19433" y="9434"/>
                  <a:pt x="19433" y="7849"/>
                </a:cubicBezTo>
                <a:cubicBezTo>
                  <a:pt x="19433" y="5534"/>
                  <a:pt x="17579" y="3794"/>
                  <a:pt x="15368" y="3794"/>
                </a:cubicBezTo>
                <a:cubicBezTo>
                  <a:pt x="13157" y="3794"/>
                  <a:pt x="11486" y="5534"/>
                  <a:pt x="11486" y="7849"/>
                </a:cubicBezTo>
                <a:lnTo>
                  <a:pt x="13340" y="7849"/>
                </a:lnTo>
                <a:cubicBezTo>
                  <a:pt x="13340" y="6709"/>
                  <a:pt x="14263" y="5821"/>
                  <a:pt x="15368" y="5821"/>
                </a:cubicBezTo>
                <a:cubicBezTo>
                  <a:pt x="16473" y="5821"/>
                  <a:pt x="17405" y="6709"/>
                  <a:pt x="17405" y="7849"/>
                </a:cubicBezTo>
                <a:cubicBezTo>
                  <a:pt x="17405" y="8589"/>
                  <a:pt x="16935" y="9320"/>
                  <a:pt x="16473" y="9320"/>
                </a:cubicBezTo>
                <a:cubicBezTo>
                  <a:pt x="15368" y="9320"/>
                  <a:pt x="14263" y="10800"/>
                  <a:pt x="14263" y="12323"/>
                </a:cubicBezTo>
                <a:lnTo>
                  <a:pt x="1426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tomic Scientists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first proposed that all matter consisted of atom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Democritu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4">
            <a:hlinkClick r:id="rId1" action="ppaction://hlinksldjump"/>
          </p:cNvPr>
          <p:cNvSpPr/>
          <p:nvPr/>
        </p:nvSpPr>
        <p:spPr>
          <a:xfrm>
            <a:off x="6858000" y="80010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tomic Scientists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was responsible for describing the true organization of particles in the ato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rnest Rutherfor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tomic Scientists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did Millikan determine the mass of the elect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By knowing the density of oil and measuring the volume of the oil atom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6553080" y="777240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19" h="21600">
                <a:moveTo>
                  <a:pt x="1420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19" h="21600">
                <a:moveTo>
                  <a:pt x="15315" y="14281"/>
                </a:moveTo>
                <a:lnTo>
                  <a:pt x="15315" y="12323"/>
                </a:lnTo>
                <a:cubicBezTo>
                  <a:pt x="15315" y="11496"/>
                  <a:pt x="15646" y="10800"/>
                  <a:pt x="16246" y="10800"/>
                </a:cubicBezTo>
                <a:cubicBezTo>
                  <a:pt x="17378" y="10800"/>
                  <a:pt x="18274" y="9434"/>
                  <a:pt x="18274" y="7849"/>
                </a:cubicBezTo>
                <a:cubicBezTo>
                  <a:pt x="18274" y="5534"/>
                  <a:pt x="16420" y="3794"/>
                  <a:pt x="14209" y="3794"/>
                </a:cubicBezTo>
                <a:cubicBezTo>
                  <a:pt x="11999" y="3794"/>
                  <a:pt x="10328" y="5534"/>
                  <a:pt x="10328" y="7849"/>
                </a:cubicBezTo>
                <a:lnTo>
                  <a:pt x="12181" y="7849"/>
                </a:lnTo>
                <a:cubicBezTo>
                  <a:pt x="12181" y="6709"/>
                  <a:pt x="13104" y="5821"/>
                  <a:pt x="14209" y="5821"/>
                </a:cubicBezTo>
                <a:cubicBezTo>
                  <a:pt x="15315" y="5821"/>
                  <a:pt x="16246" y="6709"/>
                  <a:pt x="16246" y="7849"/>
                </a:cubicBezTo>
                <a:cubicBezTo>
                  <a:pt x="16246" y="8589"/>
                  <a:pt x="15776" y="9320"/>
                  <a:pt x="15315" y="9320"/>
                </a:cubicBezTo>
                <a:cubicBezTo>
                  <a:pt x="14209" y="9320"/>
                  <a:pt x="13104" y="10800"/>
                  <a:pt x="13104" y="12323"/>
                </a:cubicBezTo>
                <a:lnTo>
                  <a:pt x="1310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Atomic Structure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Which subatomic particle is used as a reference standard for relative mas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prot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7086600" y="71629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Atomic Structure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relative mass of an electr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1/184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2877920" y="533520"/>
            <a:ext cx="266688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119240"/>
                <a:tab algn="l" pos="2238480"/>
                <a:tab algn="l" pos="3357720"/>
                <a:tab algn="l" pos="4476600"/>
                <a:tab algn="l" pos="5595840"/>
                <a:tab algn="l" pos="6715080"/>
                <a:tab algn="l" pos="7834320"/>
                <a:tab algn="l" pos="8953560"/>
                <a:tab algn="l" pos="100728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Atomic Structure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600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would occur if two electrons were brought together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y would repel one anoth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6781680" y="7315200"/>
            <a:ext cx="1752840" cy="1676520"/>
          </a:xfrm>
          <a:custGeom>
            <a:avLst/>
            <a:gdLst>
              <a:gd name="textAreaLeft" fmla="*/ 108360 w 1752840"/>
              <a:gd name="textAreaRight" fmla="*/ 1644480 w 17528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2583" h="21600">
                <a:moveTo>
                  <a:pt x="0" y="0"/>
                </a:moveTo>
                <a:lnTo>
                  <a:pt x="22583" y="0"/>
                </a:lnTo>
                <a:lnTo>
                  <a:pt x="22583" y="21600"/>
                </a:lnTo>
                <a:lnTo>
                  <a:pt x="0" y="21600"/>
                </a:lnTo>
                <a:close/>
              </a:path>
              <a:path fill="lightenLess" w="22583" h="21600">
                <a:moveTo>
                  <a:pt x="0" y="0"/>
                </a:moveTo>
                <a:lnTo>
                  <a:pt x="22583" y="0"/>
                </a:lnTo>
                <a:lnTo>
                  <a:pt x="21183" y="1400"/>
                </a:lnTo>
                <a:lnTo>
                  <a:pt x="1400" y="1400"/>
                </a:lnTo>
                <a:close/>
              </a:path>
              <a:path fill="darken" w="22583" h="21600">
                <a:moveTo>
                  <a:pt x="22583" y="0"/>
                </a:moveTo>
                <a:lnTo>
                  <a:pt x="22583" y="21600"/>
                </a:lnTo>
                <a:lnTo>
                  <a:pt x="21183" y="20200"/>
                </a:lnTo>
                <a:lnTo>
                  <a:pt x="21183" y="1400"/>
                </a:lnTo>
                <a:close/>
              </a:path>
              <a:path fill="darkenLess" w="22583" h="21600">
                <a:moveTo>
                  <a:pt x="22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3" y="20200"/>
                </a:lnTo>
                <a:close/>
              </a:path>
              <a:path fill="lighten" w="22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3" h="21600">
                <a:moveTo>
                  <a:pt x="1129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583" h="21600">
                <a:moveTo>
                  <a:pt x="12397" y="14281"/>
                </a:moveTo>
                <a:lnTo>
                  <a:pt x="12397" y="12323"/>
                </a:lnTo>
                <a:cubicBezTo>
                  <a:pt x="12397" y="11496"/>
                  <a:pt x="12728" y="10800"/>
                  <a:pt x="13328" y="10800"/>
                </a:cubicBezTo>
                <a:cubicBezTo>
                  <a:pt x="14460" y="10800"/>
                  <a:pt x="15356" y="9434"/>
                  <a:pt x="15356" y="7849"/>
                </a:cubicBezTo>
                <a:cubicBezTo>
                  <a:pt x="15356" y="5534"/>
                  <a:pt x="13502" y="3794"/>
                  <a:pt x="11292" y="3794"/>
                </a:cubicBezTo>
                <a:cubicBezTo>
                  <a:pt x="9081" y="3794"/>
                  <a:pt x="7410" y="5534"/>
                  <a:pt x="7410" y="7849"/>
                </a:cubicBezTo>
                <a:lnTo>
                  <a:pt x="9264" y="7849"/>
                </a:lnTo>
                <a:cubicBezTo>
                  <a:pt x="9264" y="6709"/>
                  <a:pt x="10186" y="5821"/>
                  <a:pt x="11292" y="5821"/>
                </a:cubicBezTo>
                <a:cubicBezTo>
                  <a:pt x="12397" y="5821"/>
                  <a:pt x="13328" y="6709"/>
                  <a:pt x="13328" y="7849"/>
                </a:cubicBezTo>
                <a:cubicBezTo>
                  <a:pt x="13328" y="8589"/>
                  <a:pt x="12858" y="9320"/>
                  <a:pt x="12397" y="9320"/>
                </a:cubicBezTo>
                <a:cubicBezTo>
                  <a:pt x="11292" y="9320"/>
                  <a:pt x="10186" y="10800"/>
                  <a:pt x="10186" y="12323"/>
                </a:cubicBezTo>
                <a:lnTo>
                  <a:pt x="1018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Atomic Structure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does a change in the number of electrons in an atom give rise to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7315200" y="731520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Atomic Structure for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was the source of electrons used in Millikan’s experi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X ray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6629400" y="7391520"/>
            <a:ext cx="1600200" cy="167616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76160"/>
              <a:gd name="textAreaBottom" fmla="*/ 1572480 h 1676160"/>
            </a:gdLst>
            <a:ahLst/>
            <a:rect l="textAreaLeft" t="textAreaTop" r="textAreaRight" b="textAreaBottom"/>
            <a:pathLst>
              <a:path w="21600" h="22625">
                <a:moveTo>
                  <a:pt x="0" y="0"/>
                </a:moveTo>
                <a:lnTo>
                  <a:pt x="21600" y="0"/>
                </a:lnTo>
                <a:lnTo>
                  <a:pt x="21600" y="22625"/>
                </a:lnTo>
                <a:lnTo>
                  <a:pt x="0" y="22625"/>
                </a:lnTo>
                <a:close/>
              </a:path>
              <a:path fill="lightenLess" w="21600" h="226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5">
                <a:moveTo>
                  <a:pt x="21600" y="0"/>
                </a:moveTo>
                <a:lnTo>
                  <a:pt x="21600" y="22625"/>
                </a:lnTo>
                <a:lnTo>
                  <a:pt x="20200" y="21225"/>
                </a:lnTo>
                <a:lnTo>
                  <a:pt x="20200" y="1400"/>
                </a:lnTo>
                <a:close/>
              </a:path>
              <a:path fill="darkenLess" w="21600" h="22625">
                <a:moveTo>
                  <a:pt x="21600" y="22625"/>
                </a:moveTo>
                <a:lnTo>
                  <a:pt x="0" y="22625"/>
                </a:lnTo>
                <a:lnTo>
                  <a:pt x="1400" y="21225"/>
                </a:lnTo>
                <a:lnTo>
                  <a:pt x="20200" y="21225"/>
                </a:lnTo>
                <a:close/>
              </a:path>
              <a:path fill="lighten" w="21600" h="22625">
                <a:moveTo>
                  <a:pt x="0" y="226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5"/>
                </a:lnTo>
                <a:close/>
              </a:path>
              <a:path fill="darken" w="21600" h="22625">
                <a:moveTo>
                  <a:pt x="10800" y="1531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25">
                <a:moveTo>
                  <a:pt x="11905" y="14794"/>
                </a:moveTo>
                <a:lnTo>
                  <a:pt x="11905" y="12836"/>
                </a:lnTo>
                <a:cubicBezTo>
                  <a:pt x="11905" y="12009"/>
                  <a:pt x="12236" y="11313"/>
                  <a:pt x="12837" y="11313"/>
                </a:cubicBezTo>
                <a:cubicBezTo>
                  <a:pt x="13968" y="11313"/>
                  <a:pt x="14865" y="9946"/>
                  <a:pt x="14865" y="8362"/>
                </a:cubicBezTo>
                <a:cubicBezTo>
                  <a:pt x="14865" y="6047"/>
                  <a:pt x="13011" y="4306"/>
                  <a:pt x="10800" y="4306"/>
                </a:cubicBezTo>
                <a:cubicBezTo>
                  <a:pt x="8589" y="4306"/>
                  <a:pt x="6918" y="6047"/>
                  <a:pt x="6918" y="8362"/>
                </a:cubicBezTo>
                <a:lnTo>
                  <a:pt x="8772" y="8362"/>
                </a:lnTo>
                <a:cubicBezTo>
                  <a:pt x="8772" y="7222"/>
                  <a:pt x="9695" y="6334"/>
                  <a:pt x="10800" y="6334"/>
                </a:cubicBezTo>
                <a:cubicBezTo>
                  <a:pt x="11905" y="6334"/>
                  <a:pt x="12837" y="7222"/>
                  <a:pt x="12837" y="8362"/>
                </a:cubicBezTo>
                <a:cubicBezTo>
                  <a:pt x="12837" y="9102"/>
                  <a:pt x="12367" y="9833"/>
                  <a:pt x="11905" y="9833"/>
                </a:cubicBezTo>
                <a:cubicBezTo>
                  <a:pt x="10800" y="9833"/>
                  <a:pt x="9695" y="11313"/>
                  <a:pt x="9695" y="12836"/>
                </a:cubicBezTo>
                <a:lnTo>
                  <a:pt x="9695" y="1479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tomic Variables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From what is atomic mass derive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weighted average mass of all atoms that naturally occur in a samp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7086600" y="73915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9500" spc="-1" strike="noStrike">
                <a:solidFill>
                  <a:srgbClr val="ffffff"/>
                </a:solidFill>
                <a:latin typeface="Times New Roman"/>
              </a:rPr>
              <a:t>The mouse has led you astray, please pick again!!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6400800" y="708660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oh(1)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tomic Variables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many neutrons are in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0">
              <a:spcBef>
                <a:spcPts val="165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imes New Roman"/>
              </a:rPr>
              <a:t>Cl-35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1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6934320" y="7238880"/>
            <a:ext cx="1676160" cy="1447920"/>
          </a:xfrm>
          <a:custGeom>
            <a:avLst/>
            <a:gdLst>
              <a:gd name="textAreaLeft" fmla="*/ 93600 w 1676160"/>
              <a:gd name="textAreaRight" fmla="*/ 1582560 w 16761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4" h="21600">
                <a:moveTo>
                  <a:pt x="0" y="0"/>
                </a:moveTo>
                <a:lnTo>
                  <a:pt x="25004" y="0"/>
                </a:lnTo>
                <a:lnTo>
                  <a:pt x="25004" y="21600"/>
                </a:lnTo>
                <a:lnTo>
                  <a:pt x="0" y="21600"/>
                </a:lnTo>
                <a:close/>
              </a:path>
              <a:path fill="lightenLess" w="25004" h="21600">
                <a:moveTo>
                  <a:pt x="0" y="0"/>
                </a:moveTo>
                <a:lnTo>
                  <a:pt x="25004" y="0"/>
                </a:lnTo>
                <a:lnTo>
                  <a:pt x="23604" y="1400"/>
                </a:lnTo>
                <a:lnTo>
                  <a:pt x="1400" y="1400"/>
                </a:lnTo>
                <a:close/>
              </a:path>
              <a:path fill="darken" w="25004" h="21600">
                <a:moveTo>
                  <a:pt x="25004" y="0"/>
                </a:moveTo>
                <a:lnTo>
                  <a:pt x="25004" y="21600"/>
                </a:lnTo>
                <a:lnTo>
                  <a:pt x="23604" y="20200"/>
                </a:lnTo>
                <a:lnTo>
                  <a:pt x="23604" y="1400"/>
                </a:lnTo>
                <a:close/>
              </a:path>
              <a:path fill="darkenLess" w="25004" h="21600">
                <a:moveTo>
                  <a:pt x="25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4" y="20200"/>
                </a:lnTo>
                <a:close/>
              </a:path>
              <a:path fill="lighten" w="25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4" h="21600">
                <a:moveTo>
                  <a:pt x="1250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004" h="21600">
                <a:moveTo>
                  <a:pt x="13607" y="14281"/>
                </a:moveTo>
                <a:lnTo>
                  <a:pt x="13607" y="12323"/>
                </a:lnTo>
                <a:cubicBezTo>
                  <a:pt x="13607" y="11496"/>
                  <a:pt x="13938" y="10800"/>
                  <a:pt x="14539" y="10800"/>
                </a:cubicBezTo>
                <a:cubicBezTo>
                  <a:pt x="15670" y="10800"/>
                  <a:pt x="16567" y="9434"/>
                  <a:pt x="16567" y="7849"/>
                </a:cubicBezTo>
                <a:cubicBezTo>
                  <a:pt x="16567" y="5534"/>
                  <a:pt x="14713" y="3794"/>
                  <a:pt x="12502" y="3794"/>
                </a:cubicBezTo>
                <a:cubicBezTo>
                  <a:pt x="10291" y="3794"/>
                  <a:pt x="8620" y="5534"/>
                  <a:pt x="8620" y="7849"/>
                </a:cubicBezTo>
                <a:lnTo>
                  <a:pt x="10474" y="7849"/>
                </a:lnTo>
                <a:cubicBezTo>
                  <a:pt x="10474" y="6709"/>
                  <a:pt x="11397" y="5821"/>
                  <a:pt x="12502" y="5821"/>
                </a:cubicBezTo>
                <a:cubicBezTo>
                  <a:pt x="13607" y="5821"/>
                  <a:pt x="14539" y="6709"/>
                  <a:pt x="14539" y="7849"/>
                </a:cubicBezTo>
                <a:cubicBezTo>
                  <a:pt x="14539" y="8589"/>
                  <a:pt x="14069" y="9320"/>
                  <a:pt x="13607" y="9320"/>
                </a:cubicBezTo>
                <a:cubicBezTo>
                  <a:pt x="12502" y="9320"/>
                  <a:pt x="11397" y="10800"/>
                  <a:pt x="11397" y="12323"/>
                </a:cubicBezTo>
                <a:lnTo>
                  <a:pt x="1139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tomic Variables for 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 the atomic number of the atom that has a mass number or 15 and 8 neutr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7238880" y="7162920"/>
            <a:ext cx="1524240" cy="1523880"/>
          </a:xfrm>
          <a:custGeom>
            <a:avLst/>
            <a:gdLst>
              <a:gd name="textAreaLeft" fmla="*/ 98640 w 1524240"/>
              <a:gd name="textAreaRight" fmla="*/ 1425600 w 152424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5" h="21600">
                <a:moveTo>
                  <a:pt x="108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5" h="21600">
                <a:moveTo>
                  <a:pt x="11908" y="14281"/>
                </a:moveTo>
                <a:lnTo>
                  <a:pt x="11908" y="12323"/>
                </a:lnTo>
                <a:cubicBezTo>
                  <a:pt x="11908" y="11496"/>
                  <a:pt x="12239" y="10800"/>
                  <a:pt x="12839" y="10800"/>
                </a:cubicBezTo>
                <a:cubicBezTo>
                  <a:pt x="13971" y="10800"/>
                  <a:pt x="14867" y="9434"/>
                  <a:pt x="14867" y="7849"/>
                </a:cubicBezTo>
                <a:cubicBezTo>
                  <a:pt x="14867" y="5534"/>
                  <a:pt x="13013" y="3794"/>
                  <a:pt x="10803" y="3794"/>
                </a:cubicBezTo>
                <a:cubicBezTo>
                  <a:pt x="8592" y="3794"/>
                  <a:pt x="6921" y="5534"/>
                  <a:pt x="6921" y="7849"/>
                </a:cubicBezTo>
                <a:lnTo>
                  <a:pt x="8775" y="7849"/>
                </a:lnTo>
                <a:cubicBezTo>
                  <a:pt x="8775" y="6709"/>
                  <a:pt x="9697" y="5821"/>
                  <a:pt x="10803" y="5821"/>
                </a:cubicBezTo>
                <a:cubicBezTo>
                  <a:pt x="11908" y="5821"/>
                  <a:pt x="12839" y="6709"/>
                  <a:pt x="12839" y="7849"/>
                </a:cubicBezTo>
                <a:cubicBezTo>
                  <a:pt x="12839" y="8589"/>
                  <a:pt x="12369" y="9320"/>
                  <a:pt x="11908" y="9320"/>
                </a:cubicBezTo>
                <a:cubicBezTo>
                  <a:pt x="10803" y="9320"/>
                  <a:pt x="9697" y="10800"/>
                  <a:pt x="9697" y="12323"/>
                </a:cubicBezTo>
                <a:lnTo>
                  <a:pt x="969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tomic Variables for 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does amu stand fo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tomic Mass Uni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7162920" y="6781680"/>
            <a:ext cx="1676160" cy="1371600"/>
          </a:xfrm>
          <a:custGeom>
            <a:avLst/>
            <a:gdLst>
              <a:gd name="textAreaLeft" fmla="*/ 88920 w 1676160"/>
              <a:gd name="textAreaRight" fmla="*/ 1587240 w 167616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5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5" h="21600">
                <a:moveTo>
                  <a:pt x="14303" y="14281"/>
                </a:moveTo>
                <a:lnTo>
                  <a:pt x="14303" y="12323"/>
                </a:lnTo>
                <a:cubicBezTo>
                  <a:pt x="14303" y="11496"/>
                  <a:pt x="14634" y="10800"/>
                  <a:pt x="15234" y="10800"/>
                </a:cubicBezTo>
                <a:cubicBezTo>
                  <a:pt x="16366" y="10800"/>
                  <a:pt x="17262" y="9434"/>
                  <a:pt x="17262" y="7849"/>
                </a:cubicBezTo>
                <a:cubicBezTo>
                  <a:pt x="17262" y="5534"/>
                  <a:pt x="15408" y="3794"/>
                  <a:pt x="13197" y="3794"/>
                </a:cubicBezTo>
                <a:cubicBezTo>
                  <a:pt x="10987" y="3794"/>
                  <a:pt x="9316" y="5534"/>
                  <a:pt x="9316" y="7849"/>
                </a:cubicBezTo>
                <a:lnTo>
                  <a:pt x="11170" y="7849"/>
                </a:lnTo>
                <a:cubicBezTo>
                  <a:pt x="11170" y="6709"/>
                  <a:pt x="12092" y="5821"/>
                  <a:pt x="13197" y="5821"/>
                </a:cubicBezTo>
                <a:cubicBezTo>
                  <a:pt x="14303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3" y="9320"/>
                </a:cubicBezTo>
                <a:cubicBezTo>
                  <a:pt x="13197" y="9320"/>
                  <a:pt x="12092" y="10800"/>
                  <a:pt x="12092" y="12323"/>
                </a:cubicBezTo>
                <a:lnTo>
                  <a:pt x="12092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tomic Variables for 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otope of Carbon is the atomic mass unit based up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C-1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7162920" y="7543800"/>
            <a:ext cx="1447560" cy="144792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148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5">
                <a:moveTo>
                  <a:pt x="11905" y="14284"/>
                </a:moveTo>
                <a:lnTo>
                  <a:pt x="11905" y="12326"/>
                </a:lnTo>
                <a:cubicBezTo>
                  <a:pt x="11905" y="11499"/>
                  <a:pt x="12236" y="10803"/>
                  <a:pt x="12837" y="10803"/>
                </a:cubicBezTo>
                <a:cubicBezTo>
                  <a:pt x="13968" y="10803"/>
                  <a:pt x="14865" y="9436"/>
                  <a:pt x="14865" y="7852"/>
                </a:cubicBezTo>
                <a:cubicBezTo>
                  <a:pt x="14865" y="5537"/>
                  <a:pt x="13011" y="3796"/>
                  <a:pt x="10800" y="3796"/>
                </a:cubicBezTo>
                <a:cubicBezTo>
                  <a:pt x="8589" y="3796"/>
                  <a:pt x="6918" y="5537"/>
                  <a:pt x="6918" y="7852"/>
                </a:cubicBezTo>
                <a:lnTo>
                  <a:pt x="8772" y="7852"/>
                </a:lnTo>
                <a:cubicBezTo>
                  <a:pt x="8772" y="6712"/>
                  <a:pt x="9695" y="5824"/>
                  <a:pt x="10800" y="5824"/>
                </a:cubicBezTo>
                <a:cubicBezTo>
                  <a:pt x="11905" y="5824"/>
                  <a:pt x="12837" y="6712"/>
                  <a:pt x="12837" y="7852"/>
                </a:cubicBezTo>
                <a:cubicBezTo>
                  <a:pt x="12837" y="8592"/>
                  <a:pt x="12367" y="9323"/>
                  <a:pt x="11905" y="9323"/>
                </a:cubicBezTo>
                <a:cubicBezTo>
                  <a:pt x="10800" y="9323"/>
                  <a:pt x="9695" y="10803"/>
                  <a:pt x="9695" y="12326"/>
                </a:cubicBezTo>
                <a:lnTo>
                  <a:pt x="9695" y="14284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sotopes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isotope is used to determine the age of carbon based material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-1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7010280" y="7162920"/>
            <a:ext cx="1524240" cy="121896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7008" h="21600">
                <a:moveTo>
                  <a:pt x="0" y="0"/>
                </a:moveTo>
                <a:lnTo>
                  <a:pt x="27008" y="0"/>
                </a:lnTo>
                <a:lnTo>
                  <a:pt x="27008" y="21600"/>
                </a:lnTo>
                <a:lnTo>
                  <a:pt x="0" y="21600"/>
                </a:lnTo>
                <a:close/>
              </a:path>
              <a:path fill="lightenLess" w="27008" h="21600">
                <a:moveTo>
                  <a:pt x="0" y="0"/>
                </a:moveTo>
                <a:lnTo>
                  <a:pt x="27008" y="0"/>
                </a:lnTo>
                <a:lnTo>
                  <a:pt x="25608" y="1400"/>
                </a:lnTo>
                <a:lnTo>
                  <a:pt x="1400" y="1400"/>
                </a:lnTo>
                <a:close/>
              </a:path>
              <a:path fill="darken" w="27008" h="21600">
                <a:moveTo>
                  <a:pt x="27008" y="0"/>
                </a:moveTo>
                <a:lnTo>
                  <a:pt x="27008" y="21600"/>
                </a:lnTo>
                <a:lnTo>
                  <a:pt x="25608" y="20200"/>
                </a:lnTo>
                <a:lnTo>
                  <a:pt x="25608" y="1400"/>
                </a:lnTo>
                <a:close/>
              </a:path>
              <a:path fill="darkenLess" w="27008" h="21600">
                <a:moveTo>
                  <a:pt x="27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8" y="20200"/>
                </a:lnTo>
                <a:close/>
              </a:path>
              <a:path fill="lighten" w="27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8" h="21600">
                <a:moveTo>
                  <a:pt x="135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8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40" y="10800"/>
                  <a:pt x="15541" y="10800"/>
                </a:cubicBezTo>
                <a:cubicBezTo>
                  <a:pt x="16672" y="10800"/>
                  <a:pt x="17569" y="9434"/>
                  <a:pt x="17569" y="7849"/>
                </a:cubicBezTo>
                <a:cubicBezTo>
                  <a:pt x="17569" y="5534"/>
                  <a:pt x="15715" y="3794"/>
                  <a:pt x="13504" y="3794"/>
                </a:cubicBezTo>
                <a:cubicBezTo>
                  <a:pt x="11293" y="3794"/>
                  <a:pt x="9622" y="5534"/>
                  <a:pt x="9622" y="7849"/>
                </a:cubicBezTo>
                <a:lnTo>
                  <a:pt x="11476" y="7849"/>
                </a:lnTo>
                <a:cubicBezTo>
                  <a:pt x="11476" y="6709"/>
                  <a:pt x="12399" y="5821"/>
                  <a:pt x="13504" y="5821"/>
                </a:cubicBezTo>
                <a:cubicBezTo>
                  <a:pt x="14609" y="5821"/>
                  <a:pt x="15541" y="6709"/>
                  <a:pt x="15541" y="7849"/>
                </a:cubicBezTo>
                <a:cubicBezTo>
                  <a:pt x="15541" y="8589"/>
                  <a:pt x="15071" y="9320"/>
                  <a:pt x="14609" y="9320"/>
                </a:cubicBezTo>
                <a:cubicBezTo>
                  <a:pt x="13504" y="9320"/>
                  <a:pt x="12399" y="10800"/>
                  <a:pt x="12399" y="12323"/>
                </a:cubicBezTo>
                <a:lnTo>
                  <a:pt x="12399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sotopes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isotope is more abundant?  F-19 or F-22 given an atomic mass of 20.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F-1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6705720" y="7772400"/>
            <a:ext cx="2209680" cy="1676520"/>
          </a:xfrm>
          <a:custGeom>
            <a:avLst/>
            <a:gdLst>
              <a:gd name="textAreaLeft" fmla="*/ 108360 w 2209680"/>
              <a:gd name="textAreaRight" fmla="*/ 2101320 w 22096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68" h="21600">
                <a:moveTo>
                  <a:pt x="0" y="0"/>
                </a:moveTo>
                <a:lnTo>
                  <a:pt x="28468" y="0"/>
                </a:lnTo>
                <a:lnTo>
                  <a:pt x="28468" y="21600"/>
                </a:lnTo>
                <a:lnTo>
                  <a:pt x="0" y="21600"/>
                </a:lnTo>
                <a:close/>
              </a:path>
              <a:path fill="lightenLess" w="28468" h="21600">
                <a:moveTo>
                  <a:pt x="0" y="0"/>
                </a:moveTo>
                <a:lnTo>
                  <a:pt x="28468" y="0"/>
                </a:lnTo>
                <a:lnTo>
                  <a:pt x="27068" y="1400"/>
                </a:lnTo>
                <a:lnTo>
                  <a:pt x="1400" y="1400"/>
                </a:lnTo>
                <a:close/>
              </a:path>
              <a:path fill="darken" w="28468" h="21600">
                <a:moveTo>
                  <a:pt x="28468" y="0"/>
                </a:moveTo>
                <a:lnTo>
                  <a:pt x="28468" y="21600"/>
                </a:lnTo>
                <a:lnTo>
                  <a:pt x="27068" y="20200"/>
                </a:lnTo>
                <a:lnTo>
                  <a:pt x="27068" y="1400"/>
                </a:lnTo>
                <a:close/>
              </a:path>
              <a:path fill="darkenLess" w="28468" h="21600">
                <a:moveTo>
                  <a:pt x="28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68" y="20200"/>
                </a:lnTo>
                <a:close/>
              </a:path>
              <a:path fill="lighten" w="28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68" h="21600">
                <a:moveTo>
                  <a:pt x="1423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468" h="21600">
                <a:moveTo>
                  <a:pt x="15339" y="14281"/>
                </a:moveTo>
                <a:lnTo>
                  <a:pt x="15339" y="12323"/>
                </a:lnTo>
                <a:cubicBezTo>
                  <a:pt x="15339" y="11496"/>
                  <a:pt x="15670" y="10800"/>
                  <a:pt x="16271" y="10800"/>
                </a:cubicBezTo>
                <a:cubicBezTo>
                  <a:pt x="17402" y="10800"/>
                  <a:pt x="18298" y="9434"/>
                  <a:pt x="18298" y="7849"/>
                </a:cubicBezTo>
                <a:cubicBezTo>
                  <a:pt x="18298" y="5534"/>
                  <a:pt x="16445" y="3794"/>
                  <a:pt x="14234" y="3794"/>
                </a:cubicBezTo>
                <a:cubicBezTo>
                  <a:pt x="12023" y="3794"/>
                  <a:pt x="10352" y="5534"/>
                  <a:pt x="10352" y="7849"/>
                </a:cubicBezTo>
                <a:lnTo>
                  <a:pt x="12206" y="7849"/>
                </a:lnTo>
                <a:cubicBezTo>
                  <a:pt x="12206" y="6709"/>
                  <a:pt x="13128" y="5821"/>
                  <a:pt x="14234" y="5821"/>
                </a:cubicBezTo>
                <a:cubicBezTo>
                  <a:pt x="15339" y="5821"/>
                  <a:pt x="16271" y="6709"/>
                  <a:pt x="16271" y="7849"/>
                </a:cubicBezTo>
                <a:cubicBezTo>
                  <a:pt x="16271" y="8589"/>
                  <a:pt x="15801" y="9320"/>
                  <a:pt x="15339" y="9320"/>
                </a:cubicBezTo>
                <a:cubicBezTo>
                  <a:pt x="14234" y="9320"/>
                  <a:pt x="13128" y="10800"/>
                  <a:pt x="13128" y="12323"/>
                </a:cubicBezTo>
                <a:lnTo>
                  <a:pt x="13128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sotopes for 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of the following isotopes is least likely an isotope of Hydrogen?  H-1, H-3, H-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H-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7315200" y="739152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119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97" h="21600">
                <a:moveTo>
                  <a:pt x="13104" y="14281"/>
                </a:moveTo>
                <a:lnTo>
                  <a:pt x="13104" y="12323"/>
                </a:lnTo>
                <a:cubicBezTo>
                  <a:pt x="13104" y="11496"/>
                  <a:pt x="13435" y="10800"/>
                  <a:pt x="14035" y="10800"/>
                </a:cubicBezTo>
                <a:cubicBezTo>
                  <a:pt x="15167" y="10800"/>
                  <a:pt x="16063" y="9434"/>
                  <a:pt x="16063" y="7849"/>
                </a:cubicBezTo>
                <a:cubicBezTo>
                  <a:pt x="16063" y="5534"/>
                  <a:pt x="14209" y="3794"/>
                  <a:pt x="11999" y="3794"/>
                </a:cubicBezTo>
                <a:cubicBezTo>
                  <a:pt x="9788" y="3794"/>
                  <a:pt x="8117" y="5534"/>
                  <a:pt x="8117" y="7849"/>
                </a:cubicBezTo>
                <a:lnTo>
                  <a:pt x="9971" y="7849"/>
                </a:lnTo>
                <a:cubicBezTo>
                  <a:pt x="9971" y="6709"/>
                  <a:pt x="10893" y="5821"/>
                  <a:pt x="11999" y="5821"/>
                </a:cubicBezTo>
                <a:cubicBezTo>
                  <a:pt x="13104" y="5821"/>
                  <a:pt x="14035" y="6709"/>
                  <a:pt x="14035" y="7849"/>
                </a:cubicBezTo>
                <a:cubicBezTo>
                  <a:pt x="14035" y="8589"/>
                  <a:pt x="13565" y="9320"/>
                  <a:pt x="13104" y="9320"/>
                </a:cubicBezTo>
                <a:cubicBezTo>
                  <a:pt x="11999" y="9320"/>
                  <a:pt x="10893" y="10800"/>
                  <a:pt x="10893" y="12323"/>
                </a:cubicBezTo>
                <a:lnTo>
                  <a:pt x="1089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sotopes for 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does the prefix iso- mea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sa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4"/>
          <p:cNvSpPr/>
          <p:nvPr/>
        </p:nvSpPr>
        <p:spPr>
          <a:xfrm>
            <a:off x="6477120" y="7772400"/>
            <a:ext cx="2057400" cy="1447920"/>
          </a:xfrm>
          <a:custGeom>
            <a:avLst/>
            <a:gdLst>
              <a:gd name="textAreaLeft" fmla="*/ 93600 w 2057400"/>
              <a:gd name="textAreaRight" fmla="*/ 1963800 w 20574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0690" h="21600">
                <a:moveTo>
                  <a:pt x="0" y="0"/>
                </a:moveTo>
                <a:lnTo>
                  <a:pt x="30690" y="0"/>
                </a:lnTo>
                <a:lnTo>
                  <a:pt x="30690" y="21600"/>
                </a:lnTo>
                <a:lnTo>
                  <a:pt x="0" y="21600"/>
                </a:lnTo>
                <a:close/>
              </a:path>
              <a:path fill="lightenLess" w="30690" h="21600">
                <a:moveTo>
                  <a:pt x="0" y="0"/>
                </a:moveTo>
                <a:lnTo>
                  <a:pt x="30690" y="0"/>
                </a:lnTo>
                <a:lnTo>
                  <a:pt x="29290" y="1400"/>
                </a:lnTo>
                <a:lnTo>
                  <a:pt x="1400" y="1400"/>
                </a:lnTo>
                <a:close/>
              </a:path>
              <a:path fill="darken" w="30690" h="21600">
                <a:moveTo>
                  <a:pt x="30690" y="0"/>
                </a:moveTo>
                <a:lnTo>
                  <a:pt x="30690" y="21600"/>
                </a:lnTo>
                <a:lnTo>
                  <a:pt x="29290" y="20200"/>
                </a:lnTo>
                <a:lnTo>
                  <a:pt x="29290" y="1400"/>
                </a:lnTo>
                <a:close/>
              </a:path>
              <a:path fill="darkenLess" w="30690" h="21600">
                <a:moveTo>
                  <a:pt x="30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0" y="20200"/>
                </a:lnTo>
                <a:close/>
              </a:path>
              <a:path fill="lighten" w="30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90" h="21600">
                <a:moveTo>
                  <a:pt x="1534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90" h="21600">
                <a:moveTo>
                  <a:pt x="16450" y="14281"/>
                </a:moveTo>
                <a:lnTo>
                  <a:pt x="16450" y="12323"/>
                </a:lnTo>
                <a:cubicBezTo>
                  <a:pt x="16450" y="11496"/>
                  <a:pt x="16781" y="10800"/>
                  <a:pt x="17382" y="10800"/>
                </a:cubicBezTo>
                <a:cubicBezTo>
                  <a:pt x="18513" y="10800"/>
                  <a:pt x="19410" y="9434"/>
                  <a:pt x="19410" y="7849"/>
                </a:cubicBezTo>
                <a:cubicBezTo>
                  <a:pt x="19410" y="5534"/>
                  <a:pt x="17556" y="3794"/>
                  <a:pt x="15345" y="3794"/>
                </a:cubicBezTo>
                <a:cubicBezTo>
                  <a:pt x="13134" y="3794"/>
                  <a:pt x="11463" y="5534"/>
                  <a:pt x="11463" y="7849"/>
                </a:cubicBezTo>
                <a:lnTo>
                  <a:pt x="13317" y="7849"/>
                </a:lnTo>
                <a:cubicBezTo>
                  <a:pt x="13317" y="6709"/>
                  <a:pt x="14240" y="5821"/>
                  <a:pt x="15345" y="5821"/>
                </a:cubicBezTo>
                <a:cubicBezTo>
                  <a:pt x="16450" y="5821"/>
                  <a:pt x="17382" y="6709"/>
                  <a:pt x="17382" y="7849"/>
                </a:cubicBezTo>
                <a:cubicBezTo>
                  <a:pt x="17382" y="8589"/>
                  <a:pt x="16912" y="9320"/>
                  <a:pt x="16450" y="9320"/>
                </a:cubicBezTo>
                <a:cubicBezTo>
                  <a:pt x="15345" y="9320"/>
                  <a:pt x="14240" y="10800"/>
                  <a:pt x="14240" y="12323"/>
                </a:cubicBezTo>
                <a:lnTo>
                  <a:pt x="1424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sotopes for 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What is a radioisotop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n isotope that has an unstable nucleus and undergoes radioactive decay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7010280" y="7162920"/>
            <a:ext cx="1600200" cy="1371600"/>
          </a:xfrm>
          <a:custGeom>
            <a:avLst/>
            <a:gdLst>
              <a:gd name="textAreaLeft" fmla="*/ 88920 w 1600200"/>
              <a:gd name="textAreaRight" fmla="*/ 1511280 w 16002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5199" h="21600">
                <a:moveTo>
                  <a:pt x="0" y="0"/>
                </a:moveTo>
                <a:lnTo>
                  <a:pt x="25199" y="0"/>
                </a:lnTo>
                <a:lnTo>
                  <a:pt x="25199" y="21600"/>
                </a:lnTo>
                <a:lnTo>
                  <a:pt x="0" y="21600"/>
                </a:lnTo>
                <a:close/>
              </a:path>
              <a:path fill="lightenLess" w="25199" h="21600">
                <a:moveTo>
                  <a:pt x="0" y="0"/>
                </a:moveTo>
                <a:lnTo>
                  <a:pt x="25199" y="0"/>
                </a:lnTo>
                <a:lnTo>
                  <a:pt x="23799" y="1400"/>
                </a:lnTo>
                <a:lnTo>
                  <a:pt x="1400" y="1400"/>
                </a:lnTo>
                <a:close/>
              </a:path>
              <a:path fill="darken" w="25199" h="21600">
                <a:moveTo>
                  <a:pt x="25199" y="0"/>
                </a:moveTo>
                <a:lnTo>
                  <a:pt x="25199" y="21600"/>
                </a:lnTo>
                <a:lnTo>
                  <a:pt x="23799" y="20200"/>
                </a:lnTo>
                <a:lnTo>
                  <a:pt x="23799" y="1400"/>
                </a:lnTo>
                <a:close/>
              </a:path>
              <a:path fill="darkenLess" w="25199" h="21600">
                <a:moveTo>
                  <a:pt x="25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9" y="20200"/>
                </a:lnTo>
                <a:close/>
              </a:path>
              <a:path fill="lighten" w="25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9" h="21600">
                <a:moveTo>
                  <a:pt x="12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99" h="21600">
                <a:moveTo>
                  <a:pt x="13705" y="14281"/>
                </a:moveTo>
                <a:lnTo>
                  <a:pt x="13705" y="12323"/>
                </a:lnTo>
                <a:cubicBezTo>
                  <a:pt x="13705" y="11496"/>
                  <a:pt x="14036" y="10800"/>
                  <a:pt x="14636" y="10800"/>
                </a:cubicBezTo>
                <a:cubicBezTo>
                  <a:pt x="15768" y="10800"/>
                  <a:pt x="16664" y="9434"/>
                  <a:pt x="16664" y="7849"/>
                </a:cubicBezTo>
                <a:cubicBezTo>
                  <a:pt x="16664" y="5534"/>
                  <a:pt x="14810" y="3794"/>
                  <a:pt x="12600" y="3794"/>
                </a:cubicBezTo>
                <a:cubicBezTo>
                  <a:pt x="10389" y="3794"/>
                  <a:pt x="8718" y="5534"/>
                  <a:pt x="8718" y="7849"/>
                </a:cubicBezTo>
                <a:lnTo>
                  <a:pt x="10572" y="7849"/>
                </a:lnTo>
                <a:cubicBezTo>
                  <a:pt x="10572" y="6709"/>
                  <a:pt x="11494" y="5821"/>
                  <a:pt x="12600" y="5821"/>
                </a:cubicBezTo>
                <a:cubicBezTo>
                  <a:pt x="13705" y="5821"/>
                  <a:pt x="14636" y="6709"/>
                  <a:pt x="14636" y="7849"/>
                </a:cubicBezTo>
                <a:cubicBezTo>
                  <a:pt x="14636" y="8589"/>
                  <a:pt x="14166" y="9320"/>
                  <a:pt x="13705" y="9320"/>
                </a:cubicBezTo>
                <a:cubicBezTo>
                  <a:pt x="12600" y="9320"/>
                  <a:pt x="11494" y="10800"/>
                  <a:pt x="11494" y="12323"/>
                </a:cubicBezTo>
                <a:lnTo>
                  <a:pt x="1149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Periodic Table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many rows are there in the periodic tabl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6705720" y="7391520"/>
            <a:ext cx="1447560" cy="144756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Bonding fo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65320" y="2904840"/>
            <a:ext cx="13214160" cy="4638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ich subatomic particles are used to bond two elements ionicall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electr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5">
            <a:hlinkClick r:id="rId1" action="ppaction://hlinksldjump"/>
          </p:cNvPr>
          <p:cNvSpPr/>
          <p:nvPr/>
        </p:nvSpPr>
        <p:spPr>
          <a:xfrm>
            <a:off x="6934320" y="80773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12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839" h="21600">
                <a:moveTo>
                  <a:pt x="13525" y="14281"/>
                </a:moveTo>
                <a:lnTo>
                  <a:pt x="13525" y="12323"/>
                </a:lnTo>
                <a:cubicBezTo>
                  <a:pt x="13525" y="11496"/>
                  <a:pt x="13856" y="10800"/>
                  <a:pt x="14456" y="10800"/>
                </a:cubicBezTo>
                <a:cubicBezTo>
                  <a:pt x="15588" y="10800"/>
                  <a:pt x="16484" y="9434"/>
                  <a:pt x="16484" y="7849"/>
                </a:cubicBezTo>
                <a:cubicBezTo>
                  <a:pt x="16484" y="5534"/>
                  <a:pt x="14630" y="3794"/>
                  <a:pt x="12420" y="3794"/>
                </a:cubicBezTo>
                <a:cubicBezTo>
                  <a:pt x="10209" y="3794"/>
                  <a:pt x="8538" y="5534"/>
                  <a:pt x="8538" y="7849"/>
                </a:cubicBezTo>
                <a:lnTo>
                  <a:pt x="10392" y="7849"/>
                </a:lnTo>
                <a:cubicBezTo>
                  <a:pt x="10392" y="6709"/>
                  <a:pt x="11314" y="5821"/>
                  <a:pt x="12420" y="5821"/>
                </a:cubicBezTo>
                <a:cubicBezTo>
                  <a:pt x="13525" y="5821"/>
                  <a:pt x="14456" y="6709"/>
                  <a:pt x="14456" y="7849"/>
                </a:cubicBezTo>
                <a:cubicBezTo>
                  <a:pt x="14456" y="8589"/>
                  <a:pt x="13986" y="9320"/>
                  <a:pt x="13525" y="9320"/>
                </a:cubicBezTo>
                <a:cubicBezTo>
                  <a:pt x="12420" y="9320"/>
                  <a:pt x="11314" y="10800"/>
                  <a:pt x="11314" y="12323"/>
                </a:cubicBezTo>
                <a:lnTo>
                  <a:pt x="1131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Periodic Table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do chemicals within a group have in comm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Similar Properti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7543800" y="7543800"/>
            <a:ext cx="1600200" cy="1447920"/>
          </a:xfrm>
          <a:custGeom>
            <a:avLst/>
            <a:gdLst>
              <a:gd name="textAreaLeft" fmla="*/ 93600 w 1600200"/>
              <a:gd name="textAreaRight" fmla="*/ 1506600 w 16002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3871" h="21600">
                <a:moveTo>
                  <a:pt x="0" y="0"/>
                </a:moveTo>
                <a:lnTo>
                  <a:pt x="23871" y="0"/>
                </a:lnTo>
                <a:lnTo>
                  <a:pt x="23871" y="21600"/>
                </a:lnTo>
                <a:lnTo>
                  <a:pt x="0" y="21600"/>
                </a:lnTo>
                <a:close/>
              </a:path>
              <a:path fill="lightenLess" w="23871" h="21600">
                <a:moveTo>
                  <a:pt x="0" y="0"/>
                </a:moveTo>
                <a:lnTo>
                  <a:pt x="23871" y="0"/>
                </a:lnTo>
                <a:lnTo>
                  <a:pt x="22471" y="1400"/>
                </a:lnTo>
                <a:lnTo>
                  <a:pt x="1400" y="1400"/>
                </a:lnTo>
                <a:close/>
              </a:path>
              <a:path fill="darken" w="23871" h="21600">
                <a:moveTo>
                  <a:pt x="23871" y="0"/>
                </a:moveTo>
                <a:lnTo>
                  <a:pt x="23871" y="21600"/>
                </a:lnTo>
                <a:lnTo>
                  <a:pt x="22471" y="20200"/>
                </a:lnTo>
                <a:lnTo>
                  <a:pt x="22471" y="1400"/>
                </a:lnTo>
                <a:close/>
              </a:path>
              <a:path fill="darkenLess" w="23871" h="21600">
                <a:moveTo>
                  <a:pt x="23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1" y="20200"/>
                </a:lnTo>
                <a:close/>
              </a:path>
              <a:path fill="lighten" w="23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71" h="21600">
                <a:moveTo>
                  <a:pt x="119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71" h="21600">
                <a:moveTo>
                  <a:pt x="13041" y="14281"/>
                </a:moveTo>
                <a:lnTo>
                  <a:pt x="13041" y="12323"/>
                </a:lnTo>
                <a:cubicBezTo>
                  <a:pt x="13041" y="11496"/>
                  <a:pt x="13372" y="10800"/>
                  <a:pt x="13972" y="10800"/>
                </a:cubicBezTo>
                <a:cubicBezTo>
                  <a:pt x="15104" y="10800"/>
                  <a:pt x="16000" y="9434"/>
                  <a:pt x="16000" y="7849"/>
                </a:cubicBezTo>
                <a:cubicBezTo>
                  <a:pt x="16000" y="5534"/>
                  <a:pt x="14146" y="3794"/>
                  <a:pt x="11936" y="3794"/>
                </a:cubicBezTo>
                <a:cubicBezTo>
                  <a:pt x="9725" y="3794"/>
                  <a:pt x="8054" y="5534"/>
                  <a:pt x="8054" y="7849"/>
                </a:cubicBezTo>
                <a:lnTo>
                  <a:pt x="9908" y="7849"/>
                </a:lnTo>
                <a:cubicBezTo>
                  <a:pt x="9908" y="6709"/>
                  <a:pt x="10830" y="5821"/>
                  <a:pt x="11936" y="5821"/>
                </a:cubicBezTo>
                <a:cubicBezTo>
                  <a:pt x="13041" y="5821"/>
                  <a:pt x="13972" y="6709"/>
                  <a:pt x="13972" y="7849"/>
                </a:cubicBezTo>
                <a:cubicBezTo>
                  <a:pt x="13972" y="8589"/>
                  <a:pt x="13502" y="9320"/>
                  <a:pt x="13041" y="9320"/>
                </a:cubicBezTo>
                <a:cubicBezTo>
                  <a:pt x="11936" y="9320"/>
                  <a:pt x="10830" y="10800"/>
                  <a:pt x="10830" y="12323"/>
                </a:cubicBezTo>
                <a:lnTo>
                  <a:pt x="1083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Periodic Table for 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Name one property that changes from one element to the next in the periodic table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tomic mas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4"/>
          <p:cNvSpPr/>
          <p:nvPr/>
        </p:nvSpPr>
        <p:spPr>
          <a:xfrm>
            <a:off x="7238880" y="7696080"/>
            <a:ext cx="1524240" cy="1295640"/>
          </a:xfrm>
          <a:custGeom>
            <a:avLst/>
            <a:gdLst>
              <a:gd name="textAreaLeft" fmla="*/ 83880 w 1524240"/>
              <a:gd name="textAreaRight" fmla="*/ 1440360 w 15242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127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410" h="21600">
                <a:moveTo>
                  <a:pt x="13810" y="14281"/>
                </a:moveTo>
                <a:lnTo>
                  <a:pt x="13810" y="12323"/>
                </a:lnTo>
                <a:cubicBezTo>
                  <a:pt x="13810" y="11496"/>
                  <a:pt x="14141" y="10800"/>
                  <a:pt x="14742" y="10800"/>
                </a:cubicBezTo>
                <a:cubicBezTo>
                  <a:pt x="15873" y="10800"/>
                  <a:pt x="16770" y="9434"/>
                  <a:pt x="16770" y="7849"/>
                </a:cubicBezTo>
                <a:cubicBezTo>
                  <a:pt x="16770" y="5534"/>
                  <a:pt x="14916" y="3794"/>
                  <a:pt x="12705" y="3794"/>
                </a:cubicBezTo>
                <a:cubicBezTo>
                  <a:pt x="10494" y="3794"/>
                  <a:pt x="8823" y="5534"/>
                  <a:pt x="8823" y="7849"/>
                </a:cubicBezTo>
                <a:lnTo>
                  <a:pt x="10677" y="7849"/>
                </a:lnTo>
                <a:cubicBezTo>
                  <a:pt x="10677" y="6709"/>
                  <a:pt x="11600" y="5821"/>
                  <a:pt x="12705" y="5821"/>
                </a:cubicBezTo>
                <a:cubicBezTo>
                  <a:pt x="13810" y="5821"/>
                  <a:pt x="14742" y="6709"/>
                  <a:pt x="14742" y="7849"/>
                </a:cubicBezTo>
                <a:cubicBezTo>
                  <a:pt x="14742" y="8589"/>
                  <a:pt x="14272" y="9320"/>
                  <a:pt x="13810" y="9320"/>
                </a:cubicBezTo>
                <a:cubicBezTo>
                  <a:pt x="12705" y="9320"/>
                  <a:pt x="11600" y="10800"/>
                  <a:pt x="11600" y="12323"/>
                </a:cubicBezTo>
                <a:lnTo>
                  <a:pt x="11600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Periodic Table for 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How  are groups organized in the periodic tab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In group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7162920" y="76960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19" h="21600">
                <a:moveTo>
                  <a:pt x="14065" y="14281"/>
                </a:moveTo>
                <a:lnTo>
                  <a:pt x="14065" y="12323"/>
                </a:lnTo>
                <a:cubicBezTo>
                  <a:pt x="14065" y="11496"/>
                  <a:pt x="14395" y="10800"/>
                  <a:pt x="14996" y="10800"/>
                </a:cubicBezTo>
                <a:cubicBezTo>
                  <a:pt x="16127" y="10800"/>
                  <a:pt x="17024" y="9434"/>
                  <a:pt x="17024" y="7849"/>
                </a:cubicBezTo>
                <a:cubicBezTo>
                  <a:pt x="17024" y="5534"/>
                  <a:pt x="15170" y="3794"/>
                  <a:pt x="12959" y="3794"/>
                </a:cubicBezTo>
                <a:cubicBezTo>
                  <a:pt x="10749" y="3794"/>
                  <a:pt x="9077" y="5534"/>
                  <a:pt x="9077" y="7849"/>
                </a:cubicBezTo>
                <a:lnTo>
                  <a:pt x="10931" y="7849"/>
                </a:lnTo>
                <a:cubicBezTo>
                  <a:pt x="10931" y="6709"/>
                  <a:pt x="11854" y="5821"/>
                  <a:pt x="12959" y="5821"/>
                </a:cubicBezTo>
                <a:cubicBezTo>
                  <a:pt x="14065" y="5821"/>
                  <a:pt x="14996" y="6709"/>
                  <a:pt x="14996" y="7849"/>
                </a:cubicBezTo>
                <a:cubicBezTo>
                  <a:pt x="14996" y="8589"/>
                  <a:pt x="14526" y="9320"/>
                  <a:pt x="14065" y="9320"/>
                </a:cubicBezTo>
                <a:cubicBezTo>
                  <a:pt x="12959" y="9320"/>
                  <a:pt x="11854" y="10800"/>
                  <a:pt x="11854" y="12323"/>
                </a:cubicBezTo>
                <a:lnTo>
                  <a:pt x="1185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Periodic Table for 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percentage of elements in the periodic table are metal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12/11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7238880" y="7848720"/>
            <a:ext cx="1295640" cy="1143000"/>
          </a:xfrm>
          <a:custGeom>
            <a:avLst/>
            <a:gdLst>
              <a:gd name="textAreaLeft" fmla="*/ 73800 w 1295640"/>
              <a:gd name="textAreaRight" fmla="*/ 1221840 w 12956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4" h="21600">
                <a:moveTo>
                  <a:pt x="122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84" h="21600">
                <a:moveTo>
                  <a:pt x="13347" y="14281"/>
                </a:moveTo>
                <a:lnTo>
                  <a:pt x="13347" y="12323"/>
                </a:lnTo>
                <a:cubicBezTo>
                  <a:pt x="13347" y="11496"/>
                  <a:pt x="13678" y="10800"/>
                  <a:pt x="14278" y="10800"/>
                </a:cubicBezTo>
                <a:cubicBezTo>
                  <a:pt x="15410" y="10800"/>
                  <a:pt x="16306" y="9434"/>
                  <a:pt x="16306" y="7849"/>
                </a:cubicBezTo>
                <a:cubicBezTo>
                  <a:pt x="16306" y="5534"/>
                  <a:pt x="14453" y="3794"/>
                  <a:pt x="12242" y="3794"/>
                </a:cubicBezTo>
                <a:cubicBezTo>
                  <a:pt x="10031" y="3794"/>
                  <a:pt x="8360" y="5534"/>
                  <a:pt x="8360" y="7849"/>
                </a:cubicBezTo>
                <a:lnTo>
                  <a:pt x="10214" y="7849"/>
                </a:lnTo>
                <a:cubicBezTo>
                  <a:pt x="10214" y="6709"/>
                  <a:pt x="11136" y="5821"/>
                  <a:pt x="12242" y="5821"/>
                </a:cubicBezTo>
                <a:cubicBezTo>
                  <a:pt x="13347" y="5821"/>
                  <a:pt x="14278" y="6709"/>
                  <a:pt x="14278" y="7849"/>
                </a:cubicBezTo>
                <a:cubicBezTo>
                  <a:pt x="14278" y="8589"/>
                  <a:pt x="13808" y="9320"/>
                  <a:pt x="13347" y="9320"/>
                </a:cubicBezTo>
                <a:cubicBezTo>
                  <a:pt x="12242" y="9320"/>
                  <a:pt x="11136" y="10800"/>
                  <a:pt x="11136" y="12323"/>
                </a:cubicBezTo>
                <a:lnTo>
                  <a:pt x="11136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iscellaneous fo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Changes in the number of these particles result in i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electr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6934320" y="77724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1367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354" h="21600">
                <a:moveTo>
                  <a:pt x="14782" y="14281"/>
                </a:moveTo>
                <a:lnTo>
                  <a:pt x="14782" y="12323"/>
                </a:lnTo>
                <a:cubicBezTo>
                  <a:pt x="14782" y="11496"/>
                  <a:pt x="15113" y="10800"/>
                  <a:pt x="15713" y="10800"/>
                </a:cubicBezTo>
                <a:cubicBezTo>
                  <a:pt x="16845" y="10800"/>
                  <a:pt x="17741" y="9434"/>
                  <a:pt x="17741" y="7849"/>
                </a:cubicBezTo>
                <a:cubicBezTo>
                  <a:pt x="17741" y="5534"/>
                  <a:pt x="15888" y="3794"/>
                  <a:pt x="13677" y="3794"/>
                </a:cubicBezTo>
                <a:cubicBezTo>
                  <a:pt x="11466" y="3794"/>
                  <a:pt x="9795" y="5534"/>
                  <a:pt x="9795" y="7849"/>
                </a:cubicBezTo>
                <a:lnTo>
                  <a:pt x="11649" y="7849"/>
                </a:lnTo>
                <a:cubicBezTo>
                  <a:pt x="11649" y="6709"/>
                  <a:pt x="12571" y="5821"/>
                  <a:pt x="13677" y="5821"/>
                </a:cubicBezTo>
                <a:cubicBezTo>
                  <a:pt x="14782" y="5821"/>
                  <a:pt x="15713" y="6709"/>
                  <a:pt x="15713" y="7849"/>
                </a:cubicBezTo>
                <a:cubicBezTo>
                  <a:pt x="15713" y="8589"/>
                  <a:pt x="15243" y="9320"/>
                  <a:pt x="14782" y="9320"/>
                </a:cubicBezTo>
                <a:cubicBezTo>
                  <a:pt x="13677" y="9320"/>
                  <a:pt x="12571" y="10800"/>
                  <a:pt x="12571" y="12323"/>
                </a:cubicBezTo>
                <a:lnTo>
                  <a:pt x="1257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iscellaneous fo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gives rise to the color of the beam in a CRT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ype of gas it contai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7086600" y="7620120"/>
            <a:ext cx="1295280" cy="12952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iscellaneous for 6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particles did Rutherford use in his experi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Alpha particl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6705720" y="73152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82" h="21600">
                <a:moveTo>
                  <a:pt x="113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682" h="21600">
                <a:moveTo>
                  <a:pt x="12446" y="14281"/>
                </a:moveTo>
                <a:lnTo>
                  <a:pt x="12446" y="12323"/>
                </a:lnTo>
                <a:cubicBezTo>
                  <a:pt x="12446" y="11496"/>
                  <a:pt x="12777" y="10800"/>
                  <a:pt x="13377" y="10800"/>
                </a:cubicBezTo>
                <a:cubicBezTo>
                  <a:pt x="14509" y="10800"/>
                  <a:pt x="15405" y="9434"/>
                  <a:pt x="15405" y="7849"/>
                </a:cubicBezTo>
                <a:cubicBezTo>
                  <a:pt x="15405" y="5534"/>
                  <a:pt x="13552" y="3794"/>
                  <a:pt x="11341" y="3794"/>
                </a:cubicBezTo>
                <a:cubicBezTo>
                  <a:pt x="9130" y="3794"/>
                  <a:pt x="7459" y="5534"/>
                  <a:pt x="7459" y="7849"/>
                </a:cubicBezTo>
                <a:lnTo>
                  <a:pt x="9313" y="7849"/>
                </a:lnTo>
                <a:cubicBezTo>
                  <a:pt x="9313" y="6709"/>
                  <a:pt x="10235" y="5821"/>
                  <a:pt x="11341" y="5821"/>
                </a:cubicBezTo>
                <a:cubicBezTo>
                  <a:pt x="12446" y="5821"/>
                  <a:pt x="13377" y="6709"/>
                  <a:pt x="13377" y="7849"/>
                </a:cubicBezTo>
                <a:cubicBezTo>
                  <a:pt x="13377" y="8589"/>
                  <a:pt x="12907" y="9320"/>
                  <a:pt x="12446" y="9320"/>
                </a:cubicBezTo>
                <a:cubicBezTo>
                  <a:pt x="11341" y="9320"/>
                  <a:pt x="10235" y="10800"/>
                  <a:pt x="10235" y="12323"/>
                </a:cubicBezTo>
                <a:lnTo>
                  <a:pt x="1023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iscellaneous for 8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was the name given to the rays studied by Goldstei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anal Ray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7238880" y="7696080"/>
            <a:ext cx="1524240" cy="1447920"/>
          </a:xfrm>
          <a:custGeom>
            <a:avLst/>
            <a:gdLst>
              <a:gd name="textAreaLeft" fmla="*/ 93600 w 1524240"/>
              <a:gd name="textAreaRight" fmla="*/ 1430640 w 152424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2738" h="21600">
                <a:moveTo>
                  <a:pt x="0" y="0"/>
                </a:moveTo>
                <a:lnTo>
                  <a:pt x="22738" y="0"/>
                </a:lnTo>
                <a:lnTo>
                  <a:pt x="22738" y="21600"/>
                </a:lnTo>
                <a:lnTo>
                  <a:pt x="0" y="21600"/>
                </a:lnTo>
                <a:close/>
              </a:path>
              <a:path fill="lightenLess" w="22738" h="21600">
                <a:moveTo>
                  <a:pt x="0" y="0"/>
                </a:moveTo>
                <a:lnTo>
                  <a:pt x="22738" y="0"/>
                </a:lnTo>
                <a:lnTo>
                  <a:pt x="21338" y="1400"/>
                </a:lnTo>
                <a:lnTo>
                  <a:pt x="1400" y="1400"/>
                </a:lnTo>
                <a:close/>
              </a:path>
              <a:path fill="darken" w="22738" h="21600">
                <a:moveTo>
                  <a:pt x="22738" y="0"/>
                </a:moveTo>
                <a:lnTo>
                  <a:pt x="22738" y="21600"/>
                </a:lnTo>
                <a:lnTo>
                  <a:pt x="21338" y="20200"/>
                </a:lnTo>
                <a:lnTo>
                  <a:pt x="21338" y="1400"/>
                </a:lnTo>
                <a:close/>
              </a:path>
              <a:path fill="darkenLess" w="22738" h="21600">
                <a:moveTo>
                  <a:pt x="22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8" y="20200"/>
                </a:lnTo>
                <a:close/>
              </a:path>
              <a:path fill="lighten" w="22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8" h="21600">
                <a:moveTo>
                  <a:pt x="1136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738" h="21600">
                <a:moveTo>
                  <a:pt x="12474" y="14281"/>
                </a:moveTo>
                <a:lnTo>
                  <a:pt x="12474" y="12323"/>
                </a:lnTo>
                <a:cubicBezTo>
                  <a:pt x="12474" y="11496"/>
                  <a:pt x="12805" y="10800"/>
                  <a:pt x="13406" y="10800"/>
                </a:cubicBezTo>
                <a:cubicBezTo>
                  <a:pt x="14537" y="10800"/>
                  <a:pt x="15434" y="9434"/>
                  <a:pt x="15434" y="7849"/>
                </a:cubicBezTo>
                <a:cubicBezTo>
                  <a:pt x="15434" y="5534"/>
                  <a:pt x="13580" y="3794"/>
                  <a:pt x="11369" y="3794"/>
                </a:cubicBezTo>
                <a:cubicBezTo>
                  <a:pt x="9158" y="3794"/>
                  <a:pt x="7487" y="5534"/>
                  <a:pt x="7487" y="7849"/>
                </a:cubicBezTo>
                <a:lnTo>
                  <a:pt x="9341" y="7849"/>
                </a:lnTo>
                <a:cubicBezTo>
                  <a:pt x="9341" y="6709"/>
                  <a:pt x="10264" y="5821"/>
                  <a:pt x="11369" y="5821"/>
                </a:cubicBezTo>
                <a:cubicBezTo>
                  <a:pt x="12474" y="5821"/>
                  <a:pt x="13406" y="6709"/>
                  <a:pt x="13406" y="7849"/>
                </a:cubicBezTo>
                <a:cubicBezTo>
                  <a:pt x="13406" y="8589"/>
                  <a:pt x="12936" y="9320"/>
                  <a:pt x="12474" y="9320"/>
                </a:cubicBezTo>
                <a:cubicBezTo>
                  <a:pt x="11369" y="9320"/>
                  <a:pt x="10264" y="10800"/>
                  <a:pt x="10264" y="12323"/>
                </a:cubicBezTo>
                <a:lnTo>
                  <a:pt x="10264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iscellaneous for 1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group of individuals thought it was possible to turn lead into gol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The alchemis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6781680" y="78487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1207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5" h="21600">
                <a:moveTo>
                  <a:pt x="13178" y="14281"/>
                </a:moveTo>
                <a:lnTo>
                  <a:pt x="13178" y="12323"/>
                </a:lnTo>
                <a:cubicBezTo>
                  <a:pt x="13178" y="11496"/>
                  <a:pt x="13508" y="10800"/>
                  <a:pt x="14109" y="10800"/>
                </a:cubicBezTo>
                <a:cubicBezTo>
                  <a:pt x="15241" y="10800"/>
                  <a:pt x="16137" y="9434"/>
                  <a:pt x="16137" y="7849"/>
                </a:cubicBezTo>
                <a:cubicBezTo>
                  <a:pt x="16137" y="5534"/>
                  <a:pt x="14283" y="3794"/>
                  <a:pt x="12072" y="3794"/>
                </a:cubicBezTo>
                <a:cubicBezTo>
                  <a:pt x="9862" y="3794"/>
                  <a:pt x="8191" y="5534"/>
                  <a:pt x="8191" y="7849"/>
                </a:cubicBezTo>
                <a:lnTo>
                  <a:pt x="10044" y="7849"/>
                </a:lnTo>
                <a:cubicBezTo>
                  <a:pt x="10044" y="6709"/>
                  <a:pt x="10967" y="5821"/>
                  <a:pt x="12072" y="5821"/>
                </a:cubicBezTo>
                <a:cubicBezTo>
                  <a:pt x="13178" y="5821"/>
                  <a:pt x="14109" y="6709"/>
                  <a:pt x="14109" y="7849"/>
                </a:cubicBezTo>
                <a:cubicBezTo>
                  <a:pt x="14109" y="8589"/>
                  <a:pt x="13639" y="9320"/>
                  <a:pt x="13178" y="9320"/>
                </a:cubicBezTo>
                <a:cubicBezTo>
                  <a:pt x="12072" y="9320"/>
                  <a:pt x="10967" y="10800"/>
                  <a:pt x="10967" y="12323"/>
                </a:cubicBezTo>
                <a:lnTo>
                  <a:pt x="10967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Daily Doubl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How Much will you Wager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ailydoubl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Bonding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90000"/>
              </a:lnSpc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at type of elements are involved in ionic bonding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metals and non-meta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>
            <a:hlinkClick r:id="rId1" action="ppaction://hlinksldjump"/>
          </p:cNvPr>
          <p:cNvSpPr/>
          <p:nvPr/>
        </p:nvSpPr>
        <p:spPr>
          <a:xfrm>
            <a:off x="6477120" y="8077320"/>
            <a:ext cx="2819160" cy="1981080"/>
          </a:xfrm>
          <a:custGeom>
            <a:avLst/>
            <a:gdLst>
              <a:gd name="textAreaLeft" fmla="*/ 128160 w 2819160"/>
              <a:gd name="textAreaRight" fmla="*/ 2691000 w 281916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0736" h="21600">
                <a:moveTo>
                  <a:pt x="0" y="0"/>
                </a:moveTo>
                <a:lnTo>
                  <a:pt x="30736" y="0"/>
                </a:lnTo>
                <a:lnTo>
                  <a:pt x="30736" y="21600"/>
                </a:lnTo>
                <a:lnTo>
                  <a:pt x="0" y="21600"/>
                </a:lnTo>
                <a:close/>
              </a:path>
              <a:path fill="lightenLess" w="30736" h="21600">
                <a:moveTo>
                  <a:pt x="0" y="0"/>
                </a:moveTo>
                <a:lnTo>
                  <a:pt x="30736" y="0"/>
                </a:lnTo>
                <a:lnTo>
                  <a:pt x="29336" y="1400"/>
                </a:lnTo>
                <a:lnTo>
                  <a:pt x="1400" y="1400"/>
                </a:lnTo>
                <a:close/>
              </a:path>
              <a:path fill="darken" w="30736" h="21600">
                <a:moveTo>
                  <a:pt x="30736" y="0"/>
                </a:moveTo>
                <a:lnTo>
                  <a:pt x="30736" y="21600"/>
                </a:lnTo>
                <a:lnTo>
                  <a:pt x="29336" y="20200"/>
                </a:lnTo>
                <a:lnTo>
                  <a:pt x="29336" y="1400"/>
                </a:lnTo>
                <a:close/>
              </a:path>
              <a:path fill="darkenLess" w="30736" h="21600">
                <a:moveTo>
                  <a:pt x="30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6" y="20200"/>
                </a:lnTo>
                <a:close/>
              </a:path>
              <a:path fill="lighten" w="30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6" h="21600">
                <a:moveTo>
                  <a:pt x="153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736" h="21600">
                <a:moveTo>
                  <a:pt x="16473" y="14281"/>
                </a:moveTo>
                <a:lnTo>
                  <a:pt x="16473" y="12323"/>
                </a:lnTo>
                <a:cubicBezTo>
                  <a:pt x="16473" y="11496"/>
                  <a:pt x="16804" y="10800"/>
                  <a:pt x="17405" y="10800"/>
                </a:cubicBezTo>
                <a:cubicBezTo>
                  <a:pt x="18536" y="10800"/>
                  <a:pt x="19433" y="9434"/>
                  <a:pt x="19433" y="7849"/>
                </a:cubicBezTo>
                <a:cubicBezTo>
                  <a:pt x="19433" y="5534"/>
                  <a:pt x="17579" y="3794"/>
                  <a:pt x="15368" y="3794"/>
                </a:cubicBezTo>
                <a:cubicBezTo>
                  <a:pt x="13157" y="3794"/>
                  <a:pt x="11486" y="5534"/>
                  <a:pt x="11486" y="7849"/>
                </a:cubicBezTo>
                <a:lnTo>
                  <a:pt x="13340" y="7849"/>
                </a:lnTo>
                <a:cubicBezTo>
                  <a:pt x="13340" y="6709"/>
                  <a:pt x="14263" y="5821"/>
                  <a:pt x="15368" y="5821"/>
                </a:cubicBezTo>
                <a:cubicBezTo>
                  <a:pt x="16473" y="5821"/>
                  <a:pt x="17405" y="6709"/>
                  <a:pt x="17405" y="7849"/>
                </a:cubicBezTo>
                <a:cubicBezTo>
                  <a:pt x="17405" y="8589"/>
                  <a:pt x="16935" y="9320"/>
                  <a:pt x="16473" y="9320"/>
                </a:cubicBezTo>
                <a:cubicBezTo>
                  <a:pt x="15368" y="9320"/>
                  <a:pt x="14263" y="10800"/>
                  <a:pt x="14263" y="12323"/>
                </a:cubicBezTo>
                <a:lnTo>
                  <a:pt x="14263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Daily Doubl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How Much will you Wager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ailydouble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Make your Wa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Who are Jimmy Neutrons two best friend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 Carl and Shee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thinktheme.wav"/>
      </p:stSnd>
    </p:sndAc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6058080" y="3921120"/>
            <a:ext cx="15544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9336240" y="3921120"/>
            <a:ext cx="89866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4" descr="Jimmy Neutron - Der mutige Erfinder"/>
          <p:cNvPicPr/>
          <p:nvPr/>
        </p:nvPicPr>
        <p:blipFill>
          <a:blip r:embed="rId1"/>
          <a:stretch/>
        </p:blipFill>
        <p:spPr>
          <a:xfrm>
            <a:off x="2590920" y="1677960"/>
            <a:ext cx="10972800" cy="709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3352320"/>
            <a:ext cx="13258800" cy="1676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Times New Roman"/>
              </a:rPr>
              <a:t>Game Ove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5714640"/>
            <a:ext cx="1082016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Bonding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13214160" cy="6035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Which electrons participate in bonding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vale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6858000" y="80010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Bonding for </a:t>
            </a: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13214520" cy="60357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Q  Electrons are shared in covalent bonds.  How are the electrons used in ionic bond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Electrons are transferred from metals to non-meta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6858000" y="7924680"/>
            <a:ext cx="1981080" cy="1524240"/>
          </a:xfrm>
          <a:custGeom>
            <a:avLst/>
            <a:gdLst>
              <a:gd name="textAreaLeft" fmla="*/ 98640 w 1981080"/>
              <a:gd name="textAreaRight" fmla="*/ 1882440 w 19810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14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072" h="21600">
                <a:moveTo>
                  <a:pt x="15142" y="14281"/>
                </a:moveTo>
                <a:lnTo>
                  <a:pt x="15142" y="12323"/>
                </a:lnTo>
                <a:cubicBezTo>
                  <a:pt x="15142" y="11496"/>
                  <a:pt x="15472" y="10800"/>
                  <a:pt x="16073" y="10800"/>
                </a:cubicBezTo>
                <a:cubicBezTo>
                  <a:pt x="17204" y="10800"/>
                  <a:pt x="18101" y="9434"/>
                  <a:pt x="18101" y="7849"/>
                </a:cubicBezTo>
                <a:cubicBezTo>
                  <a:pt x="18101" y="5534"/>
                  <a:pt x="16247" y="3794"/>
                  <a:pt x="14036" y="3794"/>
                </a:cubicBezTo>
                <a:cubicBezTo>
                  <a:pt x="11825" y="3794"/>
                  <a:pt x="10154" y="5534"/>
                  <a:pt x="10154" y="7849"/>
                </a:cubicBezTo>
                <a:lnTo>
                  <a:pt x="12008" y="7849"/>
                </a:lnTo>
                <a:cubicBezTo>
                  <a:pt x="12008" y="6709"/>
                  <a:pt x="12931" y="5821"/>
                  <a:pt x="14036" y="5821"/>
                </a:cubicBezTo>
                <a:cubicBezTo>
                  <a:pt x="15142" y="5821"/>
                  <a:pt x="16073" y="6709"/>
                  <a:pt x="16073" y="7849"/>
                </a:cubicBezTo>
                <a:cubicBezTo>
                  <a:pt x="16073" y="8589"/>
                  <a:pt x="15603" y="9320"/>
                  <a:pt x="15142" y="9320"/>
                </a:cubicBezTo>
                <a:cubicBezTo>
                  <a:pt x="14036" y="9320"/>
                  <a:pt x="12931" y="10800"/>
                  <a:pt x="12931" y="12323"/>
                </a:cubicBezTo>
                <a:lnTo>
                  <a:pt x="12931" y="14281"/>
                </a:lnTo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2T16:39:25Z</dcterms:created>
  <dc:creator>Compaq</dc:creator>
  <dc:description/>
  <dc:language>en-US</dc:language>
  <cp:lastModifiedBy>Dawn</cp:lastModifiedBy>
  <dcterms:modified xsi:type="dcterms:W3CDTF">2012-02-15T03:01:02Z</dcterms:modified>
  <cp:revision>95</cp:revision>
  <dc:subject/>
  <dc:title>Jeopardy</dc:title>
</cp:coreProperties>
</file>